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9B0-0B8B-4694-B997-FAF09D84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1A9-82C4-4121-BB65-4583643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CF8-45FE-429D-9340-0452EFA1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10F-87B9-402C-B856-83AFA6A8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02F-575E-46B0-8A20-302D67D3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ADD-673A-4BD7-B923-BDB58D1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EBB-2741-4D81-A470-93FEB81D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057-617A-4043-A5DD-967D3770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FD5-E83B-4932-85E4-6EB23D13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311-C4DD-48DC-8FC4-F5EE94F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401-FF9D-43BB-8A40-9EF6994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000-02DB-4822-84A9-4163B12B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E7F4-F8E0-40DE-88EA-0FDB1EF2B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lory Be to God the Fathe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ake Mundell   ©2012 Little Mountain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God the Fat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God the 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God the Spir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Jehovah three in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while eternal ages r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Him who loved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ed us from each spot and st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e to Him who bought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us kings with Him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Lamb who once was sl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King of Angel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Church’s 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King of natio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 and earth your praises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to the King of Nations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blessing praise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the choir of angels s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nor riches power domin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its praise creation brin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glory, glo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, glory to the King of K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03:04Z</dcterms:modified>
  <cp:revision>14</cp:revision>
  <dc:subject/>
  <dc:title>By Thy Mercy Words by James J. Cummins Music by Greg Thompson © 2004 Greg Thompson Music</dc:title>
</cp:coreProperties>
</file>