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A03-7360-40EB-8BDF-85B9C95F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A46-2425-446E-9667-CA610D6B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D8A-21EA-4189-B958-958B230F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239-6FAB-4337-B81F-F9457088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E2B-764D-49BA-8D8D-31C7696E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2B7-55C2-46CE-93E6-4268E3A1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5BB-FA65-4330-802E-6111AEF7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675-7B05-4533-9A8A-01770723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E94-A2B8-434D-8A12-59F42882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192-5BD3-4F44-8C50-D6B4B5DD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BD7-A5A3-4F39-AE78-974A82FB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BA2-D29D-4923-A18F-741B942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5F05-9F78-4EEF-B56B-3D7166ABA6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lory Be to God the Father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ratius Bon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ake Mundell   ©2012 Little Mountain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God the Fath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God the S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God the Spiri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Jehovah three in 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glory, glory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while eternal ages r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Him who loved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ed us from each spot and st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Him who bought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us kings with Him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glory, glo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Lamb who once was sl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King of Angel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Church’s 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King of natio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 and earth your praises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glory, glo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King of Nations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lessing praise eterna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the choir of angels s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nor riches power domin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its praise creation br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glory, glo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, glory to the King of K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03:04Z</dcterms:modified>
  <cp:revision>14</cp:revision>
  <dc:subject/>
  <dc:title>By Thy Mercy Words by James J. Cummins Music by Greg Thompson © 2004 Greg Thompson Music</dc:title>
</cp:coreProperties>
</file>