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819-0A87-470B-9D1F-FAC26918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B6B-4A00-4049-9114-FE6287D5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5E6-47DB-4299-816D-0CBF1EC2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5AA-7009-4337-85B4-E9601A51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601-6052-4AA5-B933-E19123BC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7E5-E253-4E97-8566-DFBC84EC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81C-6E57-4A57-B873-B29FA0AA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BE6-01F4-45CE-8DB9-4762EF57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5FB-D715-4E1C-9A82-5997F31A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228-F8FE-4585-BE1D-59843224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960-901E-422A-A79F-7675BE31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E66-E3C1-44F3-BB81-56E2C90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FEED-9A69-4AAF-A719-993420C128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lorious Things of Thee Are Spoke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hn Newton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 ©1998 Kevin Twit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things of thee are spo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ion, city of our Go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se word cannot be bro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ed thee for His own ab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Rock of Ages found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shake thy sure repos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salvation's walls surround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mayst smile at all thy fo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the streams of living wate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inging from eternal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supplies Thy sons and daughte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fears of want remov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an faint while such a ri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flows their thirst to quenc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which like the Lord, the gi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ver fails from age to a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inhabitants of Z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ed in the Redeemer's bl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Whom their souls rely 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s them kings and priests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His love His people rais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 self to reign as king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s priests His solemn pra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for a thank offering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if of Zion's c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, through grace, a member 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world deride or pi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glory in Thy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ding is the worldling's pl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is boasted pomp and sh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lid joys and lasting tr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but Zion's children k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52:18Z</dcterms:modified>
  <cp:revision>22</cp:revision>
  <dc:subject/>
  <dc:title>By Thy Mercy Words by James J. Cummins Music by Greg Thompson © 2004 Greg Thompson Music</dc:title>
</cp:coreProperties>
</file>