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6993-9024-4AED-82D3-6CDFEA3C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4D79-5180-4004-84D4-224E22F7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6354-23EE-4D53-99D7-78B0C210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88AF-7AB0-45A4-A4BE-ABF8C058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DB14-5FAB-4E20-B2C5-F3A987E8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94BF-D702-4257-8359-23697289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96EA-0B6E-4844-A0E8-2F5EF2B1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1D75-F6DC-4830-9296-6F34893A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1CE5-D9EB-4382-8E13-67CF7716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8660-C5A7-4548-8A01-A5098FDE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373E-E138-4F94-A467-A7554912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5BF6-5BA8-49AC-8C2F-E4BB02C7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1755-2AEB-4857-97CA-71758E3A25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lorious Things of Thee Are Spoken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hn Newton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evin Twit   ©1998 Kevin Twit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ious things of thee are spok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Zion, city of our God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, Whose word cannot be brok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med thee for His own abo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e Rock of Ages found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an shake thy sure repos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salvation's walls surround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mayst smile at all thy fo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 the streams of living water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ringing from eternal l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ll supplies Thy sons and daughter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fears of want remove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can faint while such a ri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 flows their thirst to quench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 which like the Lord, the giv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ver fails from age to ag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essed inhabitants of Z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hed in the Redeemer's bloo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Whom their souls rely 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es them kings and priests to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His love His people raise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ver self to reign as king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s priests His solemn pra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ch for a thank offering br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ior, if of Zion's ci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, through grace, a member a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the world deride or pit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glory in Thy N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ding is the worldling's pleasu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is boasted pomp and sh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lid joys and lasting tr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ne but Zion's children kno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52:18Z</dcterms:modified>
  <cp:revision>22</cp:revision>
  <dc:subject/>
  <dc:title>By Thy Mercy Words by James J. Cummins Music by Greg Thompson © 2004 Greg Thompson Music</dc:title>
</cp:coreProperties>
</file>