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A74-0856-476E-B461-CAA9BFCC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EC2-E88E-43C3-8124-1EA3AD1C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32A-A00C-4B89-B56C-4C1DC1A2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E3D-1AE1-4775-BEE1-B5E98755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1D8-23D9-43B2-9514-D67E0ABA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99E-1332-47BE-B3A6-BA26A546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2ED-4BD3-46FF-87E4-64BBFD72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711-BAA0-44E5-97E5-14E24E65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A4C-669F-4365-AB35-78AB525C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8A4-9974-41B3-A037-7F49881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E2F-CE1E-4F84-B283-8169971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C58-F9F0-4AF6-AE95-68DC4C8E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126A-BE63-44D0-8B8E-0647AC1799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ve to the Winds Thy Fea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ul Gerhardt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n Caudill   ©Jon Caudill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o the winds thy f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and be undismay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hears thy sighs and counts thy t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lift up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lift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lift up thy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 to His sovereign s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oose and to comma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t thou, wandering, own His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wise, how str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wise, how str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wise, how strong His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, far above thy thou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ounsel shall app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fully He the work hath wrou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y ne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y ne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used thy needless f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waves and clouds and storm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gently clears the 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 thou His time; so shall this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end in jo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end in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end in joyous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0:42Z</dcterms:modified>
  <cp:revision>21</cp:revision>
  <dc:subject/>
  <dc:title>By Thy Mercy Words by James J. Cummins Music by Greg Thompson © 2004 Greg Thompson Music</dc:title>
</cp:coreProperties>
</file>