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AC4-EFD7-469E-B676-CBCDCE2F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11E-97C3-494B-A1CF-A48E65E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17D-5B47-4F4A-9DBA-A8AA8FD5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479-087D-46EF-9A74-DF74D9CE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7F3-DF3A-4A34-869C-88B2785C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B94-2328-46FF-99DF-FE687602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98C-89DE-4CF9-AACF-E71D117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D6C-066D-4368-A0C1-ED252208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441-C476-44F4-9BB0-CDA14E3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8A6-4B5D-42DB-9DA3-AFF3A1E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360-7BC3-4608-91CF-E7B18A5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7C9-2E3F-4EAC-92FE-BFD6428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1EA-9A21-4B77-A568-1686FA947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ve to the Winds Thy Fea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ul Gerhardt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n Caudill   ©Jon Caudill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o the winds thy f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and be undismay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hears thy sighs and counts thy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 thy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to His sovereign s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oose and to comma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t thou, wandering, own Hi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 His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, far above thy thou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unsel shall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fully He the work hath wrou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less f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waves and clouds and storm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ently clears the 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 thou His time; so shall this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ou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0:42Z</dcterms:modified>
  <cp:revision>21</cp:revision>
  <dc:subject/>
  <dc:title>By Thy Mercy Words by James J. Cummins Music by Greg Thompson © 2004 Greg Thompson Music</dc:title>
</cp:coreProperties>
</file>