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02F-D13C-4F71-8B50-04DD955F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F5E-6529-41DC-BC61-78C14CA8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6F3-7BCE-4B57-8F1A-90D5929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049-4262-4975-996E-68E84521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58B-1662-4124-B041-A814F2B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4A0-ECF6-4413-9C4F-FE2F64B9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831-DE26-4369-A752-B892B0C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9F8-9AF9-4CE4-9F82-2AE5621E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BE-8FFC-46AF-BBD0-B0F836F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410-9538-4027-8B33-0C91452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FD9-7D52-49FF-A46D-8DE5BE4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61E-D2F2-44F6-B693-BBBBF9E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8E65-1AE5-4093-8A70-9DB8160D52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" y="380880"/>
            <a:ext cx="891540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ive Reviv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ords by Albert Midlane alt by Chelsey Scott, Music by Chelsey Scott and Aaron Sand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© 2007 Innocent Smith (admin by The Loving Company)/ Petit Bateaux Music (ASCAP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Father for Thy, promised bl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ill we plead before Thy thr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the times of, sweet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ich can come from Thee al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ed earnests, Thou hast giv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t in these we would not re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ings still with, Thee are hidd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ur them forth and make us blest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04920" y="609480"/>
            <a:ext cx="853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Prayer ascendeth to Thee eve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swer! Father, answer pray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 oh bless each, weak endeavor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ood-bought pardon to decla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ake Thy slumbering, children wak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m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id them to Thy harvest g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lessings O our, Father make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ound their steps let blessings flo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57200" y="68580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Let no people be forgotten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t Thy showers on all desc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at in one loud blessed anthem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llions may in triumph bl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reviving, give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the looked-for Jubil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Thyself may, crowds be pr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inging glory unto The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04920" y="609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g: Give reviving, give refresh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ve the looked-for Jubile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 Thyself may, crowds be pressing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inging glory unto The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49:18Z</dcterms:created>
  <dc:creator>Zachary</dc:creator>
  <dc:description/>
  <dc:language>en-US</dc:language>
  <cp:lastModifiedBy>Zachary</cp:lastModifiedBy>
  <dcterms:modified xsi:type="dcterms:W3CDTF">2013-01-04T00:52:50Z</dcterms:modified>
  <cp:revision>5</cp:revision>
  <dc:subject/>
  <dc:title>Slide 1</dc:title>
</cp:coreProperties>
</file>