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FF13-A804-43CA-9226-48EDC8E3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51FE-B270-40D4-87FA-A9754EAE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DB2C-2DF4-4DD9-A588-D2E2B627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CC9-4320-4E64-845A-6536E7C2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CAA-54D2-4516-94D2-FE322641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EA50-F759-424F-957F-7F39EEDB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9AFF-4078-4525-BEE1-CA639198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514E-D8D0-4AF6-A5D4-8BAB8EBA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B0F7-2A3B-478D-8FB3-80853DDE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75D5-C92D-4C36-A747-93FD8A97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351-52AE-499E-9C2E-73DD4098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D85-5489-4DC2-A278-B8775A5A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109F-F967-4DAD-AEE5-ADEFC61CFC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28600" y="380880"/>
            <a:ext cx="8915400" cy="59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Give Revivi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ords by Albert Midlane alt by Chelsey Scott, Music by Chelsey Scott and Aaron Sand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© 2007 Innocent Smith (admin by The Loving Company)/ Petit Bateaux Music (ASCAP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. Father for Thy, promised blessing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till we plead before Thy thron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or the times of, sweet refreshing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ich can come from Thee alon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lessed earnests, Thou hast given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ut in these we would not re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lessings still with, Thee are hidden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our them forth and make us blest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304920" y="609480"/>
            <a:ext cx="8534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. Prayer ascendeth to Thee ever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nswer! Father, answer praye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less oh bless each, weak endeavor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lood-bought pardon to decla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ake Thy slumbering, children wak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m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id them to Thy harvest go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lessings O our, Father make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ound their steps let blessings flow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457200" y="68580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3. Let no people be forgotten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et Thy showers on all descen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at in one loud blessed anthem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illions may in triumph blen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ive reviving, give refreshing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ive the looked-for Jubile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o Thyself may, crowds be pressing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ringing glory unto Thee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304920" y="60948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g: Give reviving, give refreshing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ive the looked-for Jubile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o Thyself may, crowds be pressing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ringing glory unto Thee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7:49:18Z</dcterms:created>
  <dc:creator>Zachary</dc:creator>
  <dc:description/>
  <dc:language>en-US</dc:language>
  <cp:lastModifiedBy>Zachary</cp:lastModifiedBy>
  <dcterms:modified xsi:type="dcterms:W3CDTF">2013-01-04T00:52:50Z</dcterms:modified>
  <cp:revision>5</cp:revision>
  <dc:subject/>
  <dc:title>Slide 1</dc:title>
</cp:coreProperties>
</file>