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013-E967-4FE1-83EE-F902D9D2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B1E-9F5B-41A9-BAB6-40471FE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A82-2909-4E05-A7BB-549CBD6D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498-A303-4DD3-BEAD-5075E657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B69-61F8-432A-A407-9F6E0F9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481-B127-4AF6-88F5-0A18FA12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077-A0EA-4333-B031-C03609A9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EC2-7427-4783-A17F-BF6333A8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762-445B-43BC-97F7-0F69FCF1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754-CE70-47DF-8C57-4A3EBEA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C94-557F-48FD-B39B-FA0DFD0A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DE4-F0A1-43B6-890B-DB22E49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716-ECB6-4C9E-BC6A-531AFFB8E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the Brea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 Bens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vin Twit   ©2009, Kevin Twit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read which you have br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ine which you have pou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ords, which you have spok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we give you thanks O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is pledge that you do lov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your gift of peace resto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your call to heaven before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nctify our lives O Lor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our sainted ones in glor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ted at our Father’s boa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 Church that waits now for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love’s tie unbroken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service Lord defend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hearts keep watch and wa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world where’r you send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your kingdom come O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17:00:10Z</dcterms:modified>
  <cp:revision>14</cp:revision>
  <dc:subject/>
  <dc:title>By Thy Mercy Words by James J. Cummins Music by Greg Thompson © 2004 Greg Thompson Music</dc:title>
</cp:coreProperties>
</file>