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D208-CE4C-401F-A4AA-F7A499B85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47ED-EEC7-4D80-858B-0A313157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6CC5-5859-4E30-B033-69332DC1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CE61-166D-49C6-A27F-4158A8138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F1B3-6594-472E-B9BA-453F01B1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F59F-69C7-4F41-9970-DF03C221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90E5-2C0F-46C2-8FAB-F454E6D0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6A33-411D-4755-A451-C92CC479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E975-B07F-401F-ABCE-3D0FDABF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2F75-3245-4C20-B5FF-D827FB35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67FD-4A28-49C1-ADC9-6481E5AB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A916-19BD-49CE-98ED-ADA3DF6C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F10B-FA9A-42E1-8CCE-3D1C77E705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r the Bread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uis Bens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evin Twit   ©2009, Kevin Twit Music (ASCA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bread which you have broke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wine which you have pour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words, which you have spoke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we give you thanks O Lor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this pledge that you do love 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your gift of peace restor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your call to heaven before 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nctify our lives O Lord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our sainted ones in glory,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ated at our Father’s boar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the Church that waits now for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eep love’s tie unbroken Lor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your service Lord defend u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our hearts keep watch and war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world where’r you send 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your kingdom come O Lor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17:00:10Z</dcterms:modified>
  <cp:revision>14</cp:revision>
  <dc:subject/>
  <dc:title>By Thy Mercy Words by James J. Cummins Music by Greg Thompson © 2004 Greg Thompson Music</dc:title>
</cp:coreProperties>
</file>