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A67-AFA3-46D0-AD38-30126C0A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A06-C95E-412E-8D48-2E2363A1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6D3-DD66-4268-A514-274CEC7E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A02-F9E8-490D-B303-2E648418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4D6-21BA-42EB-A78D-7508C87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CC0-DBA1-4EF5-AE92-E476E2BF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444-878C-4A5A-A20C-4CCE04B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229-74FE-4E27-A96E-E0E954C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1DD-4AD1-4A2A-A6E0-4C142D3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F20-24C9-4D1E-BFA6-7A17764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5D5-8504-4B62-89D8-7CCBEFC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933-8C3C-4631-8A0C-6FB820C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B168-46E8-4106-9CEA-6C39C3A6F2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 Grac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 and Matthew Smith (bridge)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  ©2001 Detuned Radio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childre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in His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d by His bl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Him made 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union with wond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pture be s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othing shall sund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or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ardon, this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one can destr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treasure of gr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avenly j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thless may crave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always comes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ilest may have 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as given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's not for good dee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tempers nor fr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grace it procee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s the Lamb'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goodness, no fitn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ects He from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 can well wit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ould be wo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 sinner, expect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m but Christ'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own works rejec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ad and the g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ever regret it that on Him re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guilty as Saul or Jonah or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0:57Z</dcterms:modified>
  <cp:revision>17</cp:revision>
  <dc:subject/>
  <dc:title>By Thy Mercy Words by James J. Cummins Music by Greg Thompson © 2004 Greg Thompson Music</dc:title>
</cp:coreProperties>
</file>