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A5C-C592-44BF-96D4-E6CB991A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5FB-8635-42F1-AD74-DA1E244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DFD-16DF-4771-887D-3B72CDA1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CB7-4EB3-4CDB-B8D2-A427D46E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C9D-82E8-4B7A-AC30-13ED208F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1D7-7F88-4A99-AE33-715FC8D3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6D6-93AB-4523-BE85-A9C28DF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8DA-196C-47CF-8F94-6AFF7A9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B11-C47E-42E8-9320-5DDF6CAA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C69-75B1-42AD-82F3-9009A07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3B-5A01-4E35-B3E4-82CC2C8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D4F-DC95-4F35-A4C6-30C10E0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353-03D5-488D-9EE4-0B0C93462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e Grac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Hart and Matthew Smith (bridge)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Smith  ©2001 Detuned Radio Music (ASCAP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children of G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faith in His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d by His bloo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Him made 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union with wond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pture be s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othing shall sund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out or wit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pardon, this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one can destr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treasure of gr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avenly j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thless may crave i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always comes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ilest may have i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as given to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's not for good deed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tempers nor fr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grace it procee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s the Lamb'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goodness, no fitn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ects He from 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 can well wit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none could be wo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ck sinner, expect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m but Christ's bl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own works rejec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ad and the go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ever regret it that on Him re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guilty as Saul or Jonah or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paid for all my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, though it cost so much to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has freed even my w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e grace to the end sustains me st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30:57Z</dcterms:modified>
  <cp:revision>17</cp:revision>
  <dc:subject/>
  <dc:title>By Thy Mercy Words by James J. Cummins Music by Greg Thompson © 2004 Greg Thompson Music</dc:title>
</cp:coreProperties>
</file>