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298-8050-4E92-B29D-2241248A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CB7-05DA-4E6A-8B28-71C2BD4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BFC-8A10-440D-B531-90B272C0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E13-31A7-4FC6-9BF1-C64AAC31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731-24F0-441A-8101-CA4D354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01D-E2E4-4823-A091-06F5F4A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2F9-D6B8-4B30-8C84-AB43B8C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B72-FE2E-4C8A-81AC-2D1B1D7D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520-2E68-41FD-8837-FC34C3F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CCF-71B2-4B3A-B14E-5C4FCB3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59D-7773-4225-AD88-72BF97C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19-D385-4040-9BDB-4A12AA2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30C8-FA4D-4816-B8D0-69F713C8B1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the Beauty of the Earth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iott Pierpoint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rad Kocher   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eauty of the ear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glory of the ski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ve which from our bi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and around us l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wonder of each h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day and of the n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ll and vale, and tree and flowe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and stars of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joy of human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, sister, parent, chil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on earth and friends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gentle thoughts and mi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church, that ever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eth holy hand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fering up on every sh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pure sacrifice of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yself, best Gift Div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race so freely giv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at great, great love of Th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 on earth and joy in Heav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to Thee we rai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27:51Z</dcterms:modified>
  <cp:revision>16</cp:revision>
  <dc:subject/>
  <dc:title>By Thy Mercy Words by James J. Cummins Music by Greg Thompson © 2004 Greg Thompson Music</dc:title>
</cp:coreProperties>
</file>