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42A-D3D1-4C5A-B2AC-C036BE6D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736-58AA-4E8D-BEF9-6AF85D0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C29-388B-4A75-8922-E7673F2A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465-4606-480A-9F13-51DE85AE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1B7-01CA-4F27-8701-CA4D6AF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ACC-374D-42BF-9022-74076F04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134-9F74-48D0-B366-8F182059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B7F-19D8-4EA5-B6CB-674E4C40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886-66A8-44C0-ABEF-761E319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4FE-FD4B-4CBC-A83C-FBE35AA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203-A94E-48AC-BCC2-DD176BB1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0FC-4CBD-4DF3-8053-41EA0D11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1DF4-E391-4A25-B076-FE7CDEC0AE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 the Beauty of the Earth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lliott Pierpoint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rad Kocher   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beauty of the ear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glory of the ski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ove which from our bi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and around us l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to Thee we 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wonder of each ho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day and of the n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ll and vale, and tree and flow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 and moon, and stars of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to Thee we 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joy of human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ther, sister, parent, chi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 on earth and friends ab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gentle thoughts and mi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to Thee we 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church, that ever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eth holy hands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fering up on every sh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pure sacrifice of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to Thee we 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yself, best Gift Div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race so freely giv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at great, great love of Th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ace on earth and joy in Heav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to Thee we 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27:51Z</dcterms:modified>
  <cp:revision>16</cp:revision>
  <dc:subject/>
  <dc:title>By Thy Mercy Words by James J. Cummins Music by Greg Thompson © 2004 Greg Thompson Music</dc:title>
</cp:coreProperties>
</file>