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638-0B0F-442B-9158-863385EC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55B-32CE-4D6D-8B7C-4205D49D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D77-ED5B-4359-BA5E-51B472D4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F29-8F12-4C79-96E8-0F8A7ADC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123-1CC5-4E98-B796-E093AC8A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D62-5194-4802-91EA-C4C6CEF6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BC2-4B3C-442C-A1E8-E1157683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7B4-A738-414D-AA9D-317D8352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110-6589-4B31-BA91-41A740EC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667-F8A4-4FE4-B8FC-44318BEE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8F7-F77F-4B3D-AD27-FB4FDB7B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D55-47A8-4EAF-B6FA-606ACDBC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98F3-33E7-42A1-B0B7-FB9D405C4B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 All the Saint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How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is Miner   ©1997, Christopher Miner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ll the sain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from their labors re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Thee by fai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e world confess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Name, O Jes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forever blesse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, Allelu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wast their rock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fortress and their migh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, Lord, their cap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well fought figh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, in the dark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ear, their one true Ligh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, Allelu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Thy soldie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ful, true and bol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ght as the sai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nobly fought of ol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n with th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victor's crown of gol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, Allelu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olden eve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ghtens in the wes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, soon to faithfu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rriors comes their res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et is the cal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paradise the blesse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, Allelu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lo! There brea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yet more glorious d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aints triumph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e in bright arr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 of gl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sses on his w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, Allelu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earth's wide bound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ocean's farthest co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gates of pear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ams in the countless ho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to Fath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n, and Holy Gho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25:23Z</dcterms:modified>
  <cp:revision>15</cp:revision>
  <dc:subject/>
  <dc:title>By Thy Mercy Words by James J. Cummins Music by Greg Thompson © 2004 Greg Thompson Music</dc:title>
</cp:coreProperties>
</file>