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187-04CA-42B1-A929-4F43D3A9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E2F-FB3B-4015-967C-E8BEA157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94B-4C07-4D35-A139-F2EFDD38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D92-78AD-4D16-BC97-A2A2D380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54E-D287-495A-A1C2-2336E0E5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6B3-C0CE-4AB3-85DD-17469C9D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1B5-57D7-4A50-83A8-C53E06BB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CAD-7721-4842-A1B1-0599903D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25D-FAAD-44E9-9180-40062307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DDB-F227-4E51-A2FD-59B82837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F93-D487-48BD-997A-6622CFAD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A91-61AE-4E13-9F39-C5B61477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B317-0182-4B5B-91E3-C5C09B6B04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All the Saint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How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 Miner   ©1997, Christopher Miner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the sain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from their labors re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Thee by fai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world confe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Name, O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forever blesse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wast their rock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fortress and their migh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, Lord, their cap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well fought figh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, in the dark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ear, their one true Ligh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Thy soldie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ful, true and bol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ht as the sai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nobly fought of ol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n with th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victor's crown of gol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olden eve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ghtens in the wes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, soon to faithfu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rriors comes their res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et is the cal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paradise the blesse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lo! There brea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yet more glorious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aints triumph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e in bright ar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 of gl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sses on his 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earth's wide bound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ocean's farthest co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gates of pear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ams in the countless ho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to Fath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n, and Holy Gho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25:23Z</dcterms:modified>
  <cp:revision>15</cp:revision>
  <dc:subject/>
  <dc:title>By Thy Mercy Words by James J. Cummins Music by Greg Thompson © 2004 Greg Thompson Music</dc:title>
</cp:coreProperties>
</file>