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8DB-6C4F-4293-8E94-6692B96A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564-5F5E-490C-A52A-81DDE098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170-CDAF-4E72-B52F-8F71E962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8FD-DA91-4002-AE6B-C7D13C6D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380-20C2-410F-BB14-91BF5783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854-D37A-47B3-8E25-3C54148B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781-5FAF-438E-8B8C-AA8E77B6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B1B-D88C-4F22-B897-4F76876D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A74-D671-4646-9E04-DB436935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F6F-8F7D-466B-8460-20016FB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6C2-9059-43C1-81AF-66BACD7A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C3B-F054-4D1D-9A30-73E1CFC6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1F77-DF4B-4AA0-A154-3763D5EE32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ther of Mercies in Thy Wor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 Stee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ve Dale   ©2001, Steve Dale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, in Thy Wo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ndless glory shin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ever be Thy Name ador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se celestial lin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, the fair tree of knowledge g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yields a free rep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limer sweets than nature kn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ite the longing tas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 Redeemer's welcome voi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eads heavenly peace arou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fe and everlasting jo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end the blissful s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may these heavenly pages b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ever dear del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new beauties may I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increasing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ne Instructor, gracious Lor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forever near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o love Thy sacred W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iew my Savior ther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of mer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22:58Z</dcterms:modified>
  <cp:revision>14</cp:revision>
  <dc:subject/>
  <dc:title>By Thy Mercy Words by James J. Cummins Music by Greg Thompson © 2004 Greg Thompson Music</dc:title>
</cp:coreProperties>
</file>