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FC4-990A-45D8-AAC3-838F2CE9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52B-629A-445E-B0E3-BCEFA03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77E-EC22-411A-8805-95BFB2DA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F19-D367-4AB4-9080-33314F55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C1D-A907-44BF-B833-D2EA1299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464-5375-46CC-898F-22D3ED8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123-3F4E-4CDB-810E-B5A8138C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74B-C0FC-4D09-BD01-0FD86C5F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ED4-90AB-4493-A471-3BFC95C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AA9-409A-47EB-8E32-0026CEA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4D3-80DA-49D8-8E20-53E590B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F54-FCE5-4B0E-A84B-088B44A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4B1-C4F4-4ABE-A41C-2B8D39F5A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of Mercies in Thy Wor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ve Dale   ©2001, Steve Dale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, 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ndless glory shin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ver be Thy Name ador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se celestial li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the fair tree of knowledge g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yields a free rep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limer sweets than nature kn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 the longing tas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Redeemer's welcome voi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s heavenly peace aro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nd everlasting jo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 the blissful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these heavenly pages 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ever dear del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new beauties may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increasing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ne Instructor, gracious Lor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forever nea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love Thy sacred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ew my Savior the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2:58Z</dcterms:modified>
  <cp:revision>14</cp:revision>
  <dc:subject/>
  <dc:title>By Thy Mercy Words by James J. Cummins Music by Greg Thompson © 2004 Greg Thompson Music</dc:title>
</cp:coreProperties>
</file>