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962-BC39-4EAC-9024-7FF3043A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90E-1C97-483B-B2E8-B558E9B8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9BB-076B-42DD-9F47-910D1499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5AF-BB01-4B9D-A976-A6ACE314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59C-9AD6-4415-A0B0-7A91499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BB0-EED8-4C1C-9BAA-5BF4EEF4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A24-459C-4C2E-A973-2C61ACEF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1AB-C603-45D5-8AD7-33FEDE28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BAE-DA7D-4074-9D99-654A9D08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145-6366-42D1-971F-4CF27B4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F4A-FF12-436F-8813-39F692B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47D-AF5D-44D3-B6B6-E77AE3B7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FCD1-5B0C-4532-AB62-0AD56D968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ther Long Before Creatio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inese Hymn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rew Osenga   ©2005 The Velvet Eagle Sings (ASCA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, long before cre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dst chosen us in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love so deep, so m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s us close to Christ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it keeps us, still it keeps u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mly fixed in Christ a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world may change its fash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our God is e'er the sa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mpassion and His coven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ages will rem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own children, God's own childr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rever praise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compassion is my st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my boasting all the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free and never fail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s my will, directs my 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so loved us, God so loved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His only Son He g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ing Father now before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ever praise Thy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songs will sound unceas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 we reach our home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ing glory, giving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God and to the Lam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6:36Z</dcterms:modified>
  <cp:revision>20</cp:revision>
  <dc:subject/>
  <dc:title>By Thy Mercy Words by James J. Cummins Music by Greg Thompson © 2004 Greg Thompson Music</dc:title>
</cp:coreProperties>
</file>