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B46-D6B8-4B79-AC27-942B39E0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5EB-1680-4B0D-B67C-64443E8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DC8-FBC1-4405-8FA3-D68695FA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07B-CAB5-49CA-B68B-6A96408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7E2-94B6-455D-BA34-FF5AF2E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2FF-A9C4-46F1-A28B-F34BE9B5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432-92DD-4CA2-9B10-1AF2D347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D0A-51CF-4E71-970E-2EDCA43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0FD-8B3F-4A13-B34A-15519E1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6EF-31BA-4F0B-8942-C2BE55E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E47-F225-45BF-A2E6-CB211FC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613-AB45-4DF1-B562-0E1D234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5D5-74BE-4292-B415-FFFB3B686D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Long Before Creatio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nese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rew Osenga   ©2005 The Velvet Eagle Sings (ASCA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, long before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dst chosen us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love so deep, so m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s us close to Chris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it keeps us, still it keeps 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mly fixed in Christ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world may change its fash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ur God is e'er the sa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mpassion and His coven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will rem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children, God's own childr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rever prais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compassion is my st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my boasting all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free and never fail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s my will, directs my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so loved us, God so loved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is only Son H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ing Father now before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ever praise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songs will sound uncea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we reach our hom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6:36Z</dcterms:modified>
  <cp:revision>20</cp:revision>
  <dc:subject/>
  <dc:title>By Thy Mercy Words by James J. Cummins Music by Greg Thompson © 2004 Greg Thompson Music</dc:title>
</cp:coreProperties>
</file>