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D8C-A015-4A01-8ED3-04528358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35C-7D9B-40F9-9964-5FD23903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1236-4C64-43D3-B0B2-90AAC68E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ED6-2CE3-4F96-A528-C1707B8A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A77-EDDA-40E0-8EEA-918E8976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4B8-AEA7-4D4B-A64D-F696E0AF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053-0B69-41D3-B39A-5174D597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833-0947-40DD-9BCE-4D4712CB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5EE-0CFA-4DD3-91FA-7746CCCA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90B-8B91-464E-AB7E-AAF76757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F83-3A04-4AEE-8806-9F6CAFBB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892-3F7D-41CA-AC23-ACBAD3EE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85E5-10B5-4AD3-A665-6ECD7A07CB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ther Long Before Creatio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inese Hymn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rew Osenga   ©2005 The Velvet Eagle Sings (ASCAP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, long before cre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dst chosen us in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at love so deep, so mo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s us close to Christ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it keeps us, still it keeps u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mly fixed in Christ al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he world may change its fash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our God is e'er the sa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compassion and His covena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ages will rem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own children, God's own childr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forever praise His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compassion is my st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my boasting all the d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free and never fail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es my will, directs my 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so loved us, God so loved 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His only Son He ga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ing Father now before Th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ill ever praise Thy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ur songs will sound unceas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l we reach our home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ing glory, giving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God and to the Lamb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ing glory, giving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God and to the Lamb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36:36Z</dcterms:modified>
  <cp:revision>20</cp:revision>
  <dc:subject/>
  <dc:title>By Thy Mercy Words by James J. Cummins Music by Greg Thompson © 2004 Greg Thompson Music</dc:title>
</cp:coreProperties>
</file>