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403-6967-4172-83D4-5C235C90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9BA-0026-4033-8E86-C021F47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D9E-44DF-4BCD-96AD-E87928D8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5E7-F798-478C-AB85-1D5A08E2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776-DC03-4ECE-A7CE-3DED8F08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0CC-9EC1-4681-8D74-7A28D1D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D3F-D314-42B5-88F4-01DBF2D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60-D45B-4E37-8BF7-EBA20FB6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570-8960-445A-8292-872FB0D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336-2F1F-40A1-B385-B5CED50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8F3-9A9B-418C-BC22-C9281BA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5E5-A62E-4B12-8C15-D3B30DB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723-FCDC-4208-97B6-B690C8FAC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Long Before Creatio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nese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rew Osenga   ©2005 The Velvet Eagle Sings (ASCA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, long before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dst chosen us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love so deep, so m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s us close to Chris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it keeps us, still it keeps 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mly fixed in Christ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world may change its fash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ur God is e'er the sa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mpassion and His coven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will rem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children, God's own childr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rever prais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compassion is my st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my boasting all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free and never fail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s my will, directs my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so loved us, God so loved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is only Son H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ing Father now before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ever praise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songs will sound uncea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we reach our hom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6:36Z</dcterms:modified>
  <cp:revision>20</cp:revision>
  <dc:subject/>
  <dc:title>By Thy Mercy Words by James J. Cummins Music by Greg Thompson © 2004 Greg Thompson Music</dc:title>
</cp:coreProperties>
</file>