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1CF-C122-4D1B-B3FC-2E2F7FC3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39AE-C82C-4F7F-ADAD-855688BD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EE1C-16E6-4871-96EA-2609F20A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7E2C-8B84-42BF-8141-86567396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3FFA-B5F6-4A6E-B68D-E16B51DD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780D-F6CF-4370-94F7-0B44FA5E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5C0-8280-40AA-ACCA-A98E63EC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C93C-3B6F-4EC4-B98B-110D4C80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DB3B-4C24-4CD0-BB5D-59D9C8C7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BB6-F370-4B72-B005-5A76E0CF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201-89F3-47B4-8E26-F4A5F06A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5B0-1F54-49D8-8AAF-E787A5D5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143E-FAB3-4C74-91CC-B44676AD14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irest Lord Jesu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entury German Hymn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lesian Folk Song   Public Dom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rest Lord Jes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ler of all natu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ou of God and man the S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e will I cherish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e will I hono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rt my glory, joy and crow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r are the meadow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rer still the woodland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bed in the blooming garb of Spring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is fair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is pur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makes the woeful heart to s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r is the sunshin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rer still the moonligh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the twinkling starry hos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shines bright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shines pur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all the angels heaven can boa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34:05Z</dcterms:modified>
  <cp:revision>19</cp:revision>
  <dc:subject/>
  <dc:title>By Thy Mercy Words by James J. Cummins Music by Greg Thompson © 2004 Greg Thompson Music</dc:title>
</cp:coreProperties>
</file>