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9A2-C659-46B0-B7CF-0FCB164A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9D5-074D-4343-A327-4DB7149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DE4-6A79-47DD-A583-1363241E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48E-4EF0-411D-B321-DF618B4D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F81-43EC-4E12-97DF-90CBADB2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9ED-EB23-41E6-B2D3-5EFC38F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1FE-DB0C-46F9-B1DC-352F7F2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6C5-0763-414F-B6FD-C147346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EF3-6408-43E1-8B76-27E3B32E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5A2-4F1E-48FF-B749-311CF2C4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81A-158B-4CA3-8829-6167111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641-414E-4812-9891-A1D3C67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D167-5EF6-492F-BE2B-41F5B9886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irest Lord Jesu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entury German Hym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esian Folk Song 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st Lor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r of all nat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ou of God and man the S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ill I cheris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ill I hon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my glory, joy and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 are the meadow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r still the woodla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d in the blooming garb of Spr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fair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pur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makes the woeful heart to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 is the sunshi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r still the moonl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twinkling starry ho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hines bright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hines pur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ll the angels heaven can bo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4:05Z</dcterms:modified>
  <cp:revision>19</cp:revision>
  <dc:subject/>
  <dc:title>By Thy Mercy Words by James J. Cummins Music by Greg Thompson © 2004 Greg Thompson Music</dc:title>
</cp:coreProperties>
</file>