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B74F-612A-448F-9E99-0D02E8B8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20BF-349C-414A-A951-CF4883A3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7653-73D1-4F05-857D-C2F99333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F74E-2747-4E40-AC34-DEA95786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FBFA-19B8-4ADE-8880-A49FB562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45CE-B986-4634-AE7D-98DFB5B1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03B2-DDAC-4504-8BB8-F482F511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202C-03E0-44E5-87B3-97D1BE6F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4FEC-E88D-47D2-B1C7-DC1737B3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5D95-91E4-4857-B106-1549DC30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14E-1922-4C54-85C6-CD888C2C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21E3-5C18-45E7-8180-6DA715AD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196B-D5B2-4E24-B7CE-D0B1F475B6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ce to Fac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rrie E. Breck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ris Miner  ©2004 Christopher Miner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ce to face with Christ, my Savio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ce to face what will it b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with rapture I behold H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Christ Who died for m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ce to face I shall behold H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r beyond the starry s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ce to face in all His glor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all see Him by and b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ly faintly now I see H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e darkened veil betwe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a blessed day is com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His glory shall be se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ce to face I shall behold H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r beyond the starry s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ce to face in all His glor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all see Him by and b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rejoicing in His presenc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are banished grief and p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e crooked ways are straighten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dark things shall be pl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ce to face I shall behold H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r beyond the starry s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ce to face in all His glor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all see Him by and b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ce to face, oh, blissful moment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ce to face to see and kn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ce to face with my Redeem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Christ Who loves me 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ce to face I shall behold H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r beyond the starry s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ce to face in all His glor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all see Him by and b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32:26Z</dcterms:modified>
  <cp:revision>18</cp:revision>
  <dc:subject/>
  <dc:title>By Thy Mercy Words by James J. Cummins Music by Greg Thompson © 2004 Greg Thompson Music</dc:title>
</cp:coreProperties>
</file>