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894-4BBD-4057-911B-6E54F1EB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8A4E-16FF-49D2-B0C1-54EA174D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D8C-D3E5-41D9-A835-1B9AB49D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473F-68F4-4D4D-ABAE-B9880D39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03A-3B69-4717-A8A6-A1B4E0F6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209F-9374-4757-8C31-F85412CD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694-B45C-4A0F-9F1D-A4202525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688C-E82D-4AC3-9FBF-FD1AC7C5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3AC-F70F-4989-8728-204D2FA6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858C-C2D8-440A-9AED-234079D4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D56-3068-475C-9AE2-E93D45AA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422-D65A-4236-BB72-CA523A10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2FE8-52D4-47E6-8BED-5C72E9CE10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e to Fac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rrie E. Breck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ris Miner  ©2004 Christopher Miner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with Christ, my Savio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what will it b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ith rapture I behold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Christ Who died for m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I shall behold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r beyond the starry s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in all His glor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see Him by and b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 faintly now I see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e darkened veil betw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a blessed day is com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His glory shall be s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I shall behold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r beyond the starry s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in all His glor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see Him by and b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rejoicing in His presen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are banished grief and p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 crooked ways are straighten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dark things shall be pl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I shall behold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r beyond the starry s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in all His glor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see Him by and b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, oh, blissful moment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to see and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with my Redeem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Christ Who loves me 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I shall behold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r beyond the starry s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e to face in all His glor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see Him by and b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32:26Z</dcterms:modified>
  <cp:revision>18</cp:revision>
  <dc:subject/>
  <dc:title>By Thy Mercy Words by James J. Cummins Music by Greg Thompson © 2004 Greg Thompson Music</dc:title>
</cp:coreProperties>
</file>