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FF4-9B03-4622-B94F-CC132A89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499-FE7F-4C7C-95EE-C033D064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3265-0040-4B50-B504-C676A070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EDA-D874-4298-9EDB-1EE87057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E78-CF95-4809-B24C-38A3D912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E15-19D8-4A2F-91D8-D9E38D7D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A9D-F4AC-46D5-BD43-D2FECD66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7C9-27D7-4521-B7C9-CEFBB709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815-1C5E-446B-8B24-35068812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5D9-89EE-459B-B4D9-1AAD53CC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B74-D5AF-4AAF-BE4E-341BFDC6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138-9DB2-4EDF-8755-FF05B755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F98D-9086-4EB3-A60E-7335B2FD64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d Christ Over Sinners Weep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nry Ly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lake Mundell   ©2012, Little Mountain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d Christ over sinners weep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all our cheeks be dr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floods of penitential grief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rst forth from every ey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old the Son of God in tea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ngels wondering s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t thou no wonder, O my soul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hed those tears for thee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ept that we might weep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ght weep over sin and sham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ept to show His love for 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id us love the s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old the Son of God in tea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ngels wondering s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t thou no wonder, O my soul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hed those tears for thee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tender be our heart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eyes in sorrow di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 every tear from every ey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wiped away by H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old the Son of God in tea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ngels wondering s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t thou no wonder, O my soul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hed those tears for thee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16:55:19Z</dcterms:modified>
  <cp:revision>14</cp:revision>
  <dc:subject/>
  <dc:title>By Thy Mercy Words by James J. Cummins Music by Greg Thompson © 2004 Greg Thompson Music</dc:title>
</cp:coreProperties>
</file>