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B37-44D7-4C12-9413-CE3A29A0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46E-4EFD-40CA-AB5C-10B8F348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955-5CB9-4CE1-BB6E-94D57E92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0BC-602A-4C2A-BD07-0EC1BCD5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C8E-CFC9-41DF-9061-E8EF1E40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B4B-F0ED-49CD-8114-3CF17344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EA4-C7EA-45ED-A110-C8CCEC7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606-BC34-49E4-A43D-DFFAFCFD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51C-16BB-4689-AA6D-CD7F6CC0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42F-7632-4CAB-B294-FBC942D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15B-AF43-446C-A1D4-39A4EC27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1F7-7851-419B-A634-11A8841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B3A2-8739-42C7-BB10-2D8EE6A66D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d Christ Over Sinners Weep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nry Ly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ake Mundell   ©2012, Little Mountain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Christ over sinners weep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ll our cheeks be d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floods of penitential grief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rst forth from every ey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the Son of God in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gels wondering s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 wonder, O my soul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ed those tears for the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ept that we might weep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weep over sin and sha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ept to show His love for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us love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the Son of God in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gels wondering s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 wonder, O my soul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ed those tears for the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ender be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eyes in sorrow d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every tear from every ey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wiped away by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the Son of God in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gels wondering s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 wonder, O my soul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ed those tears for the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6:55:19Z</dcterms:modified>
  <cp:revision>14</cp:revision>
  <dc:subject/>
  <dc:title>By Thy Mercy Words by James J. Cummins Music by Greg Thompson © 2004 Greg Thompson Music</dc:title>
</cp:coreProperties>
</file>