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2CD-02B5-458E-8053-CBD502B5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A63-D609-4BED-8637-DF13842A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1F8-EA93-422E-8FD0-D6D664C7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F4B-C180-438A-9B64-F3076ED7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023-8F74-4086-A1FB-A5E9871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D15-146D-46BE-A857-87F6EDB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180-58AE-4596-AAD3-4156748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27A-E53A-4395-9A1B-3C6074A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806-7BE8-4034-AAD9-EC04E8F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9E7-0E95-4815-B074-09E7ED0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AF8-56D9-4575-BF13-FB71127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8B5-4655-4678-B257-01AB50F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BA2-00DB-4D5D-B112-150C4ED11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ar Refuge of My Wear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1998,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refuge of my wear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when sorrows r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when waves of trouble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ope rel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tell each rising gr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lone canst he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d can bring a sweet r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pain I fe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! When gloomy doubts prev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ar to call Thee m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rings of comfort seem to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hopes dec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gracious God, where shall I fl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my only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my soul would cleave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prostrate in the d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Thou not bid me seek Thy f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I seek in vai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n the ear of sovereign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deaf when I compl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ill the ear of sovereign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s the mourner's pray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I ever find acc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reathe my sorrows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seat is open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y soul retr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umble hope attend Thy w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beneath Thy fee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y seat is open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y soul retr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umble hope attend Thy w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beneath Th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0:38Z</dcterms:modified>
  <cp:revision>13</cp:revision>
  <dc:subject/>
  <dc:title>By Thy Mercy Words by James J. Cummins Music by Greg Thompson © 2004 Greg Thompson Music</dc:title>
</cp:coreProperties>
</file>