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4BA-4264-4301-ACE4-54FBD4A1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78F-2A91-4521-BCA7-BF79CF43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ED2-F882-4283-8E8D-B2538E18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0D3-C6F4-4D20-A65B-0097E217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06E-CD25-489C-9017-988C734D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BBE-5CA3-430E-9D16-A08748F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567-859B-4E1B-885A-A80278C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99A-2B1E-4E19-BE51-29B54E3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983-86A5-41D1-AAB1-80E7829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C14-397C-424A-993D-B5424729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14B-5A51-44AB-97C9-07E8975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C69-ED5D-45FC-A73A-5FA82CB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6E58-DBCF-4B87-BDDE-AB94E229B7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ar Refuge of My Weary Sou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Stee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1998,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refuge of my wear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when sorrows 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when waves of trouble ro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nting hope rel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tell each rising gr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lone canst he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d can bring a sweet rel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very pain I fe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h! When gloomy doubts prev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ar to call Thee m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rings of comfort seem to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hopes dec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gracious God, where shall I fl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my only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my soul would cleave to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prostrate in the d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t bid me seek Thy f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ll I seek in vai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n the ear of sovereign g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deaf when I compl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till the ear of sovereign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s the mourner's pray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I ever find acc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reathe my sorrows 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 seat is open st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let my soul retre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umble hope attend Thy w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beneath Thy fee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 seat is open st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let my soul retr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umble hope attend Thy w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beneath Thy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0:38Z</dcterms:modified>
  <cp:revision>13</cp:revision>
  <dc:subject/>
  <dc:title>By Thy Mercy Words by James J. Cummins Music by Greg Thompson © 2004 Greg Thompson Music</dc:title>
</cp:coreProperties>
</file>