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298-3783-4ADC-B0C9-26F7C096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7C4-579F-4DE8-9E32-F6087B5D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DC2-1B72-41D1-AD91-CCA98516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01F-3086-4C58-92B3-7E129B5B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D91-038C-4DA9-BCEC-E83B31CA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869-9050-472A-8A4D-7B2D4B00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D78-D8C8-400A-9A1E-D7850259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CFE-634C-4D80-9199-1264AFBB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777-5A28-41AD-9551-0E29D4D7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010-F2B4-49C3-993B-F9B776E0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630-10EF-418A-8B58-548DE827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A4B-84C6-408A-A665-115B6437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F6D7-9017-48E4-BC99-8EEEBA7B1D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ar Lord Remember M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hn Steve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aty Bowser   ©2002, Velveteen So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r Lord, remember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inner weak and v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ll of impiet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raught with sin and gu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nnot hope but in Thy blo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member me, O Lord, for g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able to depe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nature-strength and pow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my soul befrien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ach me to trust Thee m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e me from sin and all its sm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ave me from my treacherous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on Thy oath I 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feeble soul sec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sin I am oppress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y salvation's s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like a bottle in the smo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ow Thy vessels can't be bro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true, dear Lor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a sinner vile indeed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hoping in the Lamb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deigned for such to ble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ile the Spirit seals my hear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oul believes we ne'er shall 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ever will defe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eople of His cho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loves them without en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them does rejo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m He shed His precious blo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ill present them all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18:10Z</dcterms:modified>
  <cp:revision>12</cp:revision>
  <dc:subject/>
  <dc:title>By Thy Mercy Words by James J. Cummins Music by Greg Thompson © 2004 Greg Thompson Music</dc:title>
</cp:coreProperties>
</file>