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7A34-A58A-461F-8D3F-ED99AAD9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3547-EBAD-4791-A334-F1D9438E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4C9B-5FFC-41E4-8F59-E35D667A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4DF8-1467-46EA-80E3-55C4C023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70EC-85E5-42E9-A3E9-D4213BDB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6AD1-EBD3-47D8-B7D8-CCC6A7B7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7004-725F-405F-8EB1-B6E3D701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1E7B-F15C-47E7-9621-B3AB0835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78E1-9221-4893-9A95-BEE13AA8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A223-6588-4C36-86B3-15C25270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C9D3-716E-4B6A-912F-03116ABA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82E2-045F-450C-9077-D36FB24B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718B-4C28-4427-80AF-A9CEB98008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ar Lord Remember M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hn Steve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aty Bowser   ©2002, Velveteen Son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ar Lord, remember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sinner weak and v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ll of impiet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raught with sin and gu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annot hope but in Thy bloo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member me, O Lord, for g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able to depe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nature-strength and pow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my soul befrien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ach me to trust Thee m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e me from sin and all its sm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save me from my treacherous he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pon Thy oath I 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feeble soul sec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sin I am oppress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hy salvation's s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like a bottle in the smok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know Thy vessels can't be brok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true, dear Lor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a sinner vile indeed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hoping in the Lamb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deigned for such to ble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hile the Spirit seals my hear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oul believes we ne'er shall p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ist ever will defe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eople of His cho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loves them without en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n them does rejo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m He shed His precious bloo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ill present them all to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18:10Z</dcterms:modified>
  <cp:revision>12</cp:revision>
  <dc:subject/>
  <dc:title>By Thy Mercy Words by James J. Cummins Music by Greg Thompson © 2004 Greg Thompson Music</dc:title>
</cp:coreProperties>
</file>