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B6-D977-44B5-8CED-653373E8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BA3-0F99-48EB-BA62-C3DBCC9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BB9-AE0C-4844-A6D4-E581AAF7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87C-1FD7-4499-B67A-C7E700E9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4F6-13E2-4DAA-BE2B-7B01320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8EC-2284-4DE3-82E9-AC45F39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081-ED3A-41C4-A12B-CB8D68B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945-9859-485B-B516-32830FB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CFC-7FAA-4C81-8A2C-362202D3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C77-F9F7-4D57-A0CB-CB092DA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0E4-F554-4D0B-8695-DB35BB3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A15-78A6-4D53-89FA-B12A2FA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4CF-1755-4556-84F5-760F86BD5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own Him With Many Crown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Bridges and Godfrey Thring (v.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orge Elve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with many crow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upon His thron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k! How the heavenly anthem drow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ic but its 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, my soul and sing Of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ed for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as thy matchless 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His hands and s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h wounds, yet visible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eauty glor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angel in the s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fully bear that s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ownward bends His wond'ring ey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mysteries so br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lif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riumphed o'er the gra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rose victorious to the str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se He came to sav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lories now we s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ed, and rose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Who died eternal life to b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ves that death may d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heav'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with the Father kn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with the Spirit through Him giv'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yonder glorious thr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be endless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for us hast di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, O Lord, through endless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ored and magn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y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otentate of ti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or of the rolling spher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effably subli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, Redeemer, ha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has died for m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aise shall never never fai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out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5:51Z</dcterms:modified>
  <cp:revision>11</cp:revision>
  <dc:subject/>
  <dc:title>By Thy Mercy Words by James J. Cummins Music by Greg Thompson © 2004 Greg Thompson Music</dc:title>
</cp:coreProperties>
</file>