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5ED-3D24-4133-9B02-2A6AD093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12B-B85E-48BC-B2C9-B7F43ADA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5F9-E6A4-4418-8916-38B3F008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EA7-576D-4163-8AEC-9A386158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192-A3E6-4482-BC01-3B30F60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AC1-42AD-483C-8DBA-83ED44BB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AC5-B74C-4D5E-945C-07AA0D4C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D65-819A-4432-B297-9507E10F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6DA-6A48-4623-9242-B21B7EBA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80E-3C73-4802-B2BB-A8613B9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623-0F7E-4655-883C-910C990D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31C-6F94-478B-B667-8A78F42D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7655-29C9-4F7B-AABE-8DC03B671D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own Him With Many Crowns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thew Bridges and Godfrey Thring (v.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orge Elve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with many crown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mb upon His thron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rk! How the heavenly anthem drow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music but its 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e, my soul and sing Of Hi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ied for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as thy matchless K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all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the Lord of l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His hands and sid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h wounds, yet visible ab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beauty glor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angel in the sk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fully bear that s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ownward bends His wond'ring ey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mysteries so br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the Lord of lif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triumphed o'er the gra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rose victorious to the strif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se He came to sav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glories now we s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ied, and rose on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Who died eternal life to br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ives that death may d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the Lord of heav'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with the Father know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with the Spirit through Him giv'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yonder glorious thr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 be endless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for us hast died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, O Lord, through endless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ored and magnif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 the Lord of y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otentate of ti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or of the rolling sphere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effably sublim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ail, Redeemer, hai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has died for m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raise shall never never fai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out eter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22:15:51Z</dcterms:modified>
  <cp:revision>11</cp:revision>
  <dc:subject/>
  <dc:title>By Thy Mercy Words by James J. Cummins Music by Greg Thompson © 2004 Greg Thompson Music</dc:title>
</cp:coreProperties>
</file>