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AC8-77AB-4A96-AEA9-DF20FF2A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93F-C2C5-41A8-A047-10C8D52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629-4D58-4EB3-B1D0-6E44401D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FB2-48F9-4AD1-8175-F204384B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3A6-AE1D-4F83-B082-E6374DF0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86A-A658-475A-9A15-B121277F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390-277A-461A-8B3C-93D71907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7C2-2D74-462E-AB7B-FFAAD84C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FD2-3CC8-4982-8D45-21ED0FB5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235-B3F9-4FF5-BA9F-CB27FE0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C4A-19B6-4B64-8DF4-910F5F6F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C4A-38E6-4DFD-8F47-4A776A77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CD5C-B8B6-4217-8953-6B6E545AF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ram Deo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 and music: Alexa Alzamora, Roger Severino and Kevin Twit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1995 Kevin Twit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ent by moment, grace after gr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ly, honestly before Your loving fa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before You, day after d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f my life embraced in Your holy g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am Deo, Coram 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f my life embraced in Your holy g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4:10Z</dcterms:modified>
  <cp:revision>11</cp:revision>
  <dc:subject/>
  <dc:title>By Thy Mercy Words by James J. Cummins Music by Greg Thompson © 2004 Greg Thompson Music</dc:title>
</cp:coreProperties>
</file>