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752A-0228-431A-AF26-37169D30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4738-0155-464C-8318-F6B58C0E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7824-02DE-41C0-9025-026376E95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6A86-9EA8-4CE2-AA42-5BA7908A9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0F13-B6A3-425C-99C3-176FD417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1386-BB41-4D1D-8DF6-66DBB447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9E31-F04A-4373-871C-5D6F55A4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EE0E-C21D-4332-AD48-5F5A82C1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A51F-BDCA-4BAE-875A-20612D65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44C3-B966-41BB-B1E5-291EF0ED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61C7-2B22-43A9-9590-EA6D468C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34E3-7B96-460F-BA84-DF0B3734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16E6-E603-41D0-9B4D-DA5EB8A3BD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ram Deo</a:t>
            </a:r>
            <a:br>
              <a:rPr sz="3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 and music: Alexa Alzamora, Roger Severino and Kevin Twit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©1995 Kevin Twit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ment by moment, grace after gra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enly, honestly before Your loving fac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ving before You, day after d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f my life embraced in Your holy gaz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ram Deo, Coram D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f my life embraced in Your holy gaz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14:10Z</dcterms:modified>
  <cp:revision>11</cp:revision>
  <dc:subject/>
  <dc:title>By Thy Mercy Words by James J. Cummins Music by Greg Thompson © 2004 Greg Thompson Music</dc:title>
</cp:coreProperties>
</file>