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7E0-A20F-485F-ADF8-ACE3FC84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790-3007-4A2D-9C12-7D78D23A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E36-A8E4-43BD-832B-4B8A13B8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069-3A18-4188-9AC8-0E51AEE2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DB2-8161-4094-A334-347C78F3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9E3-6809-4DBE-8449-6C37CD59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158-BCEC-41E1-9F8D-8AF7481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BF2-A813-4E99-A54F-A3F72FDC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BBF-B806-400A-B88E-95932774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5E2-C4F6-4C28-A563-EB1F04A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B8C-48C9-40BB-8A8E-197CBE9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478-C71C-4B40-90C0-CC2C17F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FDCF-BED4-4B79-8F69-6E94E75D78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Ye Sinner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H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Smit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0 detuned radio mus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sinners, poor and wretch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k and wounded, sick and sor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ready, stands to save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 of pity, joined with pow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, He is ab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lling; doub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ye needy, come, and welco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free bounty glorif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belief and true repentan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grace that brings you nig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money, without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Jesus Christ and bu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weary, heavy lad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uised and broken by the fall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tarry 'til you're bett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ill never come at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the righteous, not the righteo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ners Jesus came to c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t conscience make you ling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of fitness fondly dream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fitness He requi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o feel your need of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He gives you, this He gives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Spirit's rising bea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The Incarnate God, ascend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ds the merit of His bl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nture on Him; venture whol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 other trust intru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but Jesus, none but Jes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do helpless sinners g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2:09Z</dcterms:modified>
  <cp:revision>10</cp:revision>
  <dc:subject/>
  <dc:title>By Thy Mercy Words by James J. Cummins Music by Greg Thompson © 2004 Greg Thompson Music</dc:title>
</cp:coreProperties>
</file>