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60DF-850D-4523-B2E9-231ED4B2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BCF0-19B2-4F1B-BD04-6A71D144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820F-8FAC-48E7-96F1-C930CE09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E4FE-1288-42EF-A827-82C747DB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2F07-FCA6-4D2F-960C-BA113932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F4EB-A6FC-4FA8-B111-D9C02B4B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635C-5B1E-4E6A-8674-6F4E2944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D90E-05C1-4D9B-A54A-CB148BBF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0292-C47D-4AF0-B5E8-71EE37F8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4953-F51B-45F7-97E0-2EC4F23A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134D-B945-4805-8DF2-AF8BFEA7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1BE6-B83E-4FF3-A170-BA9EC555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5DF1-D8A7-4CE1-BF50-4FD42E8B9E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e Ye Sinner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seph H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tthew Smit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2000 detuned radio musi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, ye sinners, poor and wretch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ak and wounded, sick and sor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ready, stands to save you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ll of pity, joined with power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able, He is abl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willing; doubt no mo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ye needy, come, and welcom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's free bounty glorify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belief and true repentan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y grace that brings you nigh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out money, without mo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o Jesus Christ and bu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, ye weary, heavy lad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uised and broken by the fall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you tarry 'til you're bett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will never come at all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the righteous, not the righteou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ners Jesus came to c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not conscience make you ling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of fitness fondly dream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fitness He requi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to feel your need of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He gives you, this He gives you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the Spirit's rising bea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! The Incarnate God, ascende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eads the merit of His blood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enture on Him; venture whol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no other trust intru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ne but Jesus, none but Jesu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do helpless sinners go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12:09Z</dcterms:modified>
  <cp:revision>10</cp:revision>
  <dc:subject/>
  <dc:title>By Thy Mercy Words by James J. Cummins Music by Greg Thompson © 2004 Greg Thompson Music</dc:title>
</cp:coreProperties>
</file>