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3F0-8B4E-4993-8C11-DC647C0B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910-4A8E-4F47-AA54-C34C3559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04E-BDFD-4798-B32A-E697144D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BB7-2D35-4091-8148-9F830230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C79-5FDF-4AB9-986D-B5185440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DFB-4F6C-421A-8E8B-8388247D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4FC-AE34-4837-8A66-EEBC95E6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897-0B41-4B47-AA79-E3E2EBC5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EDF-4165-4B1B-866B-DD21369E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85D-F352-4BD2-A6F6-EB7C2559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D1C-76E8-47AE-9C58-A7592A58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A32-0219-4B19-920F-9910430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A3DA-29E0-4636-A5E5-CCA1D92DC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Ye Sinner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H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Smit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0 detuned radio mus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sinners, poor and wretch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k and wounded, sick and sor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ready, stands to save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 of pity, joined with pow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, He is ab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lling; doub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ye needy, come, and welco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free bounty glorif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belief and true repentan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grace that brings you nig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money, without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Jesus Christ and bu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weary, heavy lad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uised and broken by the fall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tarry 'til you're bett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ill never come at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the righteous, not the righteo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ners Jesus came to c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t conscience make you ling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of fitness fondly dream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fitness He requi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o feel your need of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He gives you, this He gives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Spirit's rising bea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The Incarnate God, ascend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ds the merit of His bl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nture on Him; venture whol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 other trust intru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but Jesus, none but Jes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do helpless sinners g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2:09Z</dcterms:modified>
  <cp:revision>10</cp:revision>
  <dc:subject/>
  <dc:title>By Thy Mercy Words by James J. Cummins Music by Greg Thompson © 2004 Greg Thompson Music</dc:title>
</cp:coreProperties>
</file>