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FC1-EA00-4183-84DE-5EFB1560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F23-AABB-4F8B-85BF-7DEACA7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972-4DB7-4AD7-AC9F-07231A74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D84-3522-4149-924E-146A0639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457-DAF1-4F6C-AA2A-166F29D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42C-A104-4E2E-9C94-4BED800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A57-88D8-42AD-84B1-B82495BA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67D-8B58-4215-978B-DC15114B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9A7-71D0-4EC2-A763-67E48BC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AA3-208F-4915-9F5F-B3869734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6A4-20D8-4BF4-996B-78052C0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196-B190-4E62-BE37-A0D66BC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67FE-5448-4162-ADC7-323AD86B6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Ye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2000 detuned radio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sinners, poor and wretch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and wounded, sick and s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ready, stands to save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pity, joined with pow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, He is ab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; doub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ye needy, come, and welco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free bounty glorif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belief and true repent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grace that brings you nig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money, without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Jesus Christ and bu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weary, heavy lad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uised and broken by th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tarry 'til you're bet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never come at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the righteous, not the righteo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ners Jesus came to c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t conscience make you li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of fitness fondly dream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fitness He requi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o feel your need of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 gives you, this He gives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Spirit's rising b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The Incarnate God, ascend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s the merit of His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nture on Him; venture whol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no other trust intr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Jesus, none but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do helpless sinners g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2:09Z</dcterms:modified>
  <cp:revision>10</cp:revision>
  <dc:subject/>
  <dc:title>By Thy Mercy Words by James J. Cummins Music by Greg Thompson © 2004 Greg Thompson Music</dc:title>
</cp:coreProperties>
</file>