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79CF-50CD-486C-9F02-83D1758AB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0122-D7B8-47D7-9DA0-B6AD5A28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4C93-7F34-4586-935A-5EB081AD2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1D7D-A560-4D71-B5E7-DA6485401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AAE5-29A9-4219-8B18-0C5D2254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FED3-4228-4579-92FE-CF266C65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A052-CC48-4F22-953B-BC0B3A12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F4E6-E564-493A-A417-3BCE7492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264E-C395-4D14-BF5E-3F7A6AF5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1870-BAED-40D3-82F4-43DCEB13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6096-13BD-4853-A281-3CC8E8BB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7FAF-490B-4D05-AA52-3431801A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C5EC-775A-4BEF-9DCD-94FEA9631A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e Ye Disconsolate</a:t>
            </a:r>
            <a:br>
              <a:rPr sz="3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homas More alt. Thomas Hasting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achel Briggs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©2004 Rachel Briggs Mus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, ye disconsolate, where'er ye languis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to the mercy seat, fervently knee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 bring your wounded hearts, here tell your anguish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rth has no sorrow that heaven cannot hea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y of the desolate, light of the stray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pe of the penitent, fadeless and pur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 speaks the Comforter, tenderly say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Earth has no sorrow that heaven cannot cure.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 see the bread of life, see waters flow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th from the throne of God, pure from ab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to the feast of love; come, ever know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rth has no sorrow but heaven can rem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2:10:22Z</dcterms:modified>
  <cp:revision>9</cp:revision>
  <dc:subject/>
  <dc:title>By Thy Mercy Words by James J. Cummins Music by Greg Thompson © 2004 Greg Thompson Music</dc:title>
</cp:coreProperties>
</file>