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D1B-0A63-43BE-AB8F-C1DC2CB1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CD1-EA58-491A-AB59-44E6767D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D99-78D4-4B44-A9FB-C1A030F2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F3C-B7A2-4FE1-A62A-AFBB7BA4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F07-F7C8-4A62-ABF7-8BDEEBCC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280-0542-4119-A8A2-29CEBA04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6F9-3FBA-4F6E-9D24-1DB28FBC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37B-CB8D-4DA5-AEFA-6DB64686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9D3-99DE-4CE9-AA87-DAF99B3F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976-7040-468A-B1F0-69937833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3047-17E0-447B-BD7A-0C666380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D90-4F20-4A11-AAFC-C6BBF357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8DD6-A0B2-42F4-BCB9-5B74FBC797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 Ye Disconsolate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omas More alt. Thomas Hasting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achel Briggs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2004 Rachel Briggs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ye disconsolate, where'er ye languis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the mercy seat, fervently knee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bring your wounded hearts, here tell your anguis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 has no sorrow that heaven cannot he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 of the desolate, light of the stray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 of the penitent, fadeless and pu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speaks the Comforter, tenderly say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Earth has no sorrow that heaven cannot cure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see the bread of life, see waters fl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th from the throne of God, pure from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the feast of love; come, ever kno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 has no sorrow but heaven can rem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10:22Z</dcterms:modified>
  <cp:revision>9</cp:revision>
  <dc:subject/>
  <dc:title>By Thy Mercy Words by James J. Cummins Music by Greg Thompson © 2004 Greg Thompson Music</dc:title>
</cp:coreProperties>
</file>