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ACE-0D7B-4663-91F2-29D537AC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040-9317-438A-8250-C25E204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57F-F389-417D-B2C6-78570A80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D03-A0CE-4808-9A66-D2322A1C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71A-3039-430B-8D71-165B551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CC8-CB70-43B5-AF41-A4080E81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D46-DEDE-4C61-A6D3-99F6ADF8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08A-5DB1-4F00-BFE2-B6EFFAF6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294-9AC4-40B2-ADA0-55D4937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8BC-2E5B-46D4-8B83-562AFC3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27A-E879-4D35-B983-598CDA1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DCA-A3DD-45AA-AF50-09C3B5A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9E5-344F-4D29-8FF7-D763C77A4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Ye Disconsolate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omas More alt. Thomas Hasting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achel Brigg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4 Rachel Briggs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disconsolate, where'er ye langu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mercy seat, fervently kne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bring your wounded hearts, here tell your anguis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that heaven cannot h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the desolate, light of the str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the penitent, fadeless and pu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peaks the Comforter, tenderly s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Earth has no sorrow that heaven cannot cur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ee the bread of life, see waters f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th from the throne of God, pure from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 of love; come, ever kn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but heaven can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0:22Z</dcterms:modified>
  <cp:revision>9</cp:revision>
  <dc:subject/>
  <dc:title>By Thy Mercy Words by James J. Cummins Music by Greg Thompson © 2004 Greg Thompson Music</dc:title>
</cp:coreProperties>
</file>