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BF6A-0241-4E7A-A67E-A423D2EE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1517-5C23-42A7-B5AE-1B2723E4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F0D7-3A7A-4073-BBE0-C3D82D52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1238-8A81-4291-82D4-27AF57D2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D9ED-5931-4B8D-BF56-53637B78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24DF-0603-4669-99CA-58505DE5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47E4-BE16-4471-ACF1-E271AD15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4D74-65CF-4204-A402-3186F20C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8139-137D-4DB8-BC3C-8228F1FC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6B49-20F8-4ECE-8D69-55BDF361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7206-F080-4AEA-AB1C-B0799AD2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B7E2-F2BD-4B13-80E5-0CFB194E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7F13-D19B-4AD8-8608-6F6FBBF4C5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e Ye Disconsolate</a:t>
            </a:r>
            <a:br>
              <a:rPr sz="3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homas More alt. Thomas Hasting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achel Briggs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©2004 Rachel Briggs Mus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, ye disconsolate, where'er ye languis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o the mercy seat, fervently knee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bring your wounded hearts, here tell your anguish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rth has no sorrow that heaven cannot hea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y of the desolate, light of the stray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pe of the penitent, fadeless and pur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speaks the Comforter, tenderly say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Earth has no sorrow that heaven cannot cure.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see the bread of life, see waters flow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th from the throne of God, pure from ab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o the feast of love; come, ever know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rth has no sorrow but heaven can rem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10:22Z</dcterms:modified>
  <cp:revision>9</cp:revision>
  <dc:subject/>
  <dc:title>By Thy Mercy Words by James J. Cummins Music by Greg Thompson © 2004 Greg Thompson Music</dc:title>
</cp:coreProperties>
</file>