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DEA-B528-4717-8EDB-8EAB6241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C70-86A7-4A75-B008-83BE2120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D55-1CBF-499D-B9CC-9E875CD2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3F8-AABA-4217-ADFC-C8A8AD7F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8E9-AA64-4AA1-B603-884B0B0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28D-A995-4E16-8A47-3CFBC02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F77-D32E-46B2-A0FE-0EC5D99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3CC-E67A-4B87-9F86-7BCA893C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BAC-7EAE-4D9C-807E-39AFBC9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B13-EC04-487E-88A2-FA393AE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4B0-0558-4A33-804F-FAC9D48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EE0-2D34-457C-B022-0313C8D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865-7A27-4C49-BB85-CFAC062D82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ou Long Expected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wland Pritch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ou long-expecte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set Thy people fre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ur fears and sins releas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strength and conso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all the saints Thou ar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esire of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every long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hy people to del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a child and yet a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reign in us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in all our hearts alon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all sufficient mer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3:41Z</dcterms:modified>
  <cp:revision>7</cp:revision>
  <dc:subject/>
  <dc:title>By Thy Mercy Words by James J. Cummins Music by Greg Thompson © 2004 Greg Thompson Music</dc:title>
</cp:coreProperties>
</file>