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0E4-7218-4728-AFD9-402A233C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8C5-0A79-4490-AC0C-7E5C3165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29B-3D45-48E2-9D11-79931459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54A-813E-4F74-9966-F2274E14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274-6AB5-4B3B-9A34-A1FDC35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21C-2A16-4FBC-B115-D4B03E2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BB0-6147-4475-A856-EFA833A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833-F5C7-46B0-B2F4-0278EA5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C5B-8038-4586-826F-700D464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8A3-4229-4462-A4E9-163C911E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DC1-E72E-4F8F-AB15-52629CC8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D5A-3A9B-40CF-BA3C-D6F7C02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6D5-EB7C-4674-AF65-33B8C3550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ou Long Expected Jesus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wland Pritcher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ou long-expecte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set Thy people fre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our fears and sins releas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's strength and conso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of all the saints Thou ar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desire of every n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of every longing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hy people to deli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a child and yet a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rn to reign in us forev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in all our hearts alon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all sufficient mer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03:41Z</dcterms:modified>
  <cp:revision>7</cp:revision>
  <dc:subject/>
  <dc:title>By Thy Mercy Words by James J. Cummins Music by Greg Thompson © 2004 Greg Thompson Music</dc:title>
</cp:coreProperties>
</file>