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EAA-6E67-470E-B744-BE489B16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9C2-9DBC-4CCF-803C-6E17FFE4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7FFE-A189-4781-86E2-C709FA42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D04-5259-408E-92F5-153F3C9A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A57-8F7D-43C6-9E55-9E5FCFBC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B3FB-F2DA-440F-8376-C0DCEF5E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EAE-24D7-47E0-AD78-750B9070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74D-7595-46D7-8698-F61E207A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FC9-8EF9-4BF8-9A77-5C0C1229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CAC-5B04-4C6E-9121-843C2BDF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1F7-D73B-423E-BB73-E07FA101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4C77-9CD5-4DF5-AB2C-772F7065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0230-9CEE-47FA-86CF-5EA9B17ECE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e Thou Long Expected Jesus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harles Wesle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wland Pritcher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Public Dom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ou long-expected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rn to set Thy people fre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our fears and sins release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find our rest in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rael's strength and consol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e of all the saints Thou art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r desire of every n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 of every longing hear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rn Thy people to deliv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rn a child and yet a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rn to reign in us forev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Thy gracious kingdom b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ine own eternal Spir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le in all our hearts alon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ine all sufficient meri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ise us to Thy glorious thr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03:41Z</dcterms:modified>
  <cp:revision>7</cp:revision>
  <dc:subject/>
  <dc:title>By Thy Mercy Words by James J. Cummins Music by Greg Thompson © 2004 Greg Thompson Music</dc:title>
</cp:coreProperties>
</file>