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CBA-690B-4247-9103-98D27882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F14-8B03-4324-9BC9-6B3FE452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887-2A3A-4F31-8394-DA863ED1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B7C-0F0D-444A-9539-303D1D6D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B6C-8529-4440-B494-87B56263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F2E-5C18-4969-BCBA-D04AD23C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CF0-8627-434C-BCC0-E8B60A11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013-A9AB-42BB-950F-5131E421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E72-55AC-4F46-B2CE-D9027D52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987-C498-4DE6-A449-3866DA44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C8A-35BF-4AD8-A212-815AD758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171-FF20-4B7C-8552-3C213021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CDE5-5A0D-42D2-ACB2-4C14360AAB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Thou Long Expected Jesus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harles Wesle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wland Pritcher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Public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ou long-expecte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o set Thy people fre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our fears and sins release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find our rest in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rael's strength and consol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of all the saints Thou ar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desire of every n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every longing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hy people to deli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a child and yet a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o reign in us forev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y gracious kingdom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own eternal Spir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in all our hearts alon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all sufficient mer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us to Thy glorious thr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03:41Z</dcterms:modified>
  <cp:revision>7</cp:revision>
  <dc:subject/>
  <dc:title>By Thy Mercy Words by James J. Cummins Music by Greg Thompson © 2004 Greg Thompson Music</dc:title>
</cp:coreProperties>
</file>