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6E5-4393-4C3C-AFB8-A94F3222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7DB-DC3C-4C4E-8B5A-53B2C5CF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323-174F-4E8E-A8C1-2AF3BA87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02D-952B-44E7-99BE-AE54FA6E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0DC-8DC4-4B9D-B614-8B81DECB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605-708E-4BE0-8973-AA4EFED0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4850-C60D-40C9-951A-44F7A688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D83-AFA4-43C6-AE08-A8BB6227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4E1-622F-43FD-B549-C1041371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132-06D8-4D35-A2EB-349C4422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A7A-219B-44EB-BCFF-CED2AD70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998-F53B-4E60-B865-B3649B7E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348D-E10F-4847-91D8-CA7BD16D39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e Thou Fount of Every Blessing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Domain    Words: Robert Robinson   Music: American Folk Tu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me Thou Fount of every bl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une my heart to sing Thy gra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treams of mercy, never ceas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all for songs of loudest p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each me some melodious sonn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ung by flaming tongues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aise the mount! I’m fixed upon i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ount of God’s unchanging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ere I raise my Ebeneze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ither by Thy help I’m co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nd I hope, by Thy good pleas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afely to arrive at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Jesus sought me when a strang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andering from the fold of G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e, to rescue me from dang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posed His precious blo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 to grace how great a deb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aily I’m constrained to b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et that grace now like a fett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ind my wandering heart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ne to wander, Lord, I feel i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ne to leave the God I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ere’s my heart, O take and seal i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al it for Thy courts ab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10:23Z</dcterms:created>
  <dc:creator>Zachary</dc:creator>
  <dc:description/>
  <dc:language>en-US</dc:language>
  <cp:lastModifiedBy>Zachary</cp:lastModifiedBy>
  <dcterms:modified xsi:type="dcterms:W3CDTF">2013-01-04T00:15:10Z</dcterms:modified>
  <cp:revision>1</cp:revision>
  <dc:subject/>
  <dc:title>Come Thou Fount of Every Blessing Public Domain    Words: Robert Robinson   Music: American Folk Tune</dc:title>
</cp:coreProperties>
</file>