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C2E-9C65-459D-8844-DCFC1B2B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7E7-460E-436A-A266-F31349E2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BA4-9C91-41B6-8A9D-0B32D211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199-8991-418B-8B09-19344D95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BD2-A500-4E89-B689-C6B0827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D84-8928-40DF-980C-DB4EDA8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C96-5698-467F-BB00-219780C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AE0-64F9-4DBA-923A-472DAD0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AAC-B10A-44B7-BCFB-9DC7A71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1E2-91F5-4301-A13C-F15AFB5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010-8F96-4029-802C-8E9A2F9A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51D-7228-4478-80FB-695BDB25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BFBA-1592-4CC5-8948-74501DF02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Thou Fount of Every Blessing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   Words: Robert Robinson   Music: American Folk Tu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e Thou Fount of every bl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une my heart to sing Thy gr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reams of mercy, never ceas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ll for songs of loudest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each me some melodious sonn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ng by flaming tongues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aise the mount! I’m fixed upon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unt of God’s unchanging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re I raise my Ebenez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ther by Thy help I’m c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d I hope, by Thy good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fely to arrive at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Jesus sought me when a stra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ndering from the fold of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, to rescue me from da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posed His preciou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to grace how great a deb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aily I’m constrained to b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t that grace now like a fett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ind my wandering heart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ne to wander, Lord, I feel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ne to leave the God I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re’s my heart, O take and seal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al it for Thy courts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10:23Z</dcterms:created>
  <dc:creator>Zachary</dc:creator>
  <dc:description/>
  <dc:language>en-US</dc:language>
  <cp:lastModifiedBy>Zachary</cp:lastModifiedBy>
  <dcterms:modified xsi:type="dcterms:W3CDTF">2013-01-04T00:15:10Z</dcterms:modified>
  <cp:revision>1</cp:revision>
  <dc:subject/>
  <dc:title>Come Thou Fount of Every Blessing Public Domain    Words: Robert Robinson   Music: American Folk Tune</dc:title>
</cp:coreProperties>
</file>