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8B9-72E2-4D95-A729-87D003B9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303-1E1A-4EB4-8523-1D19CEF7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F51-793E-4771-9B7C-2668EDBD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FFE-5EEB-481C-8862-2E7F5B1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AA8-FC4C-444F-AFFC-1BF79C93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5A1-1276-44C3-96E1-C283E5C0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7FB-6348-4E76-B3AD-A17322B2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1BE-40ED-41E2-BECB-2795C1DD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977-3A50-4131-A14B-0B49296A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AD1-25B8-468A-ADE9-CDE05B9A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04D-B3C0-44F7-86AC-A800CBE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A1F-0630-4F31-9E4E-4514603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8B5B-76C1-466F-9EC5-3BD2CF0F9F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Then Lord Jesus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Horatius Bonar alt. by Hutson and Bows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Kenny Hutson and Katy Bowser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 Velveteen Music (SESAC)/Jiggyfoot Music (SESAC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 has waited l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absent Lord to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in loneliness she wai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riendless stranger s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 after age has gon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 after sun has s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, in weeds of widowho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weeps a mourner y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, come,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rpent's brood increa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owers of hell grow bo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flicts thickens, faith is low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is waxing co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long, O Lord our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 and true and g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t thou not judge Thy suffering Churc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sighs and tears and blood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, come,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ong to hear thy voi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e face to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hare Thy crown and glory th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now we share thy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not the loving br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bsent Bridegroom mour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she not wear the weeds of grief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il her Lord retur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, come,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hole creation groa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it to hear that v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hall restore her comeli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ke her wastes rej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Lord, and wipe a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urse, the sin, the s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ke this blighted world of ou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own fair world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, come,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05:49Z</dcterms:modified>
  <cp:revision>8</cp:revision>
  <dc:subject/>
  <dc:title>By Thy Mercy Words by James J. Cummins Music by Greg Thompson © 2004 Greg Thompson Music</dc:title>
</cp:coreProperties>
</file>