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193-11C9-4A91-BCEA-4FB89E92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498-E6F8-4C35-A03B-9AB8551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56E-F142-4292-BFE0-CBB3F5E4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91C-7940-469F-B751-07F54671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379-9826-44AD-8932-79BC1117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533-B56B-408B-A23E-E1DB129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FEF-581E-4C26-80F1-0A4965F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7C0-2FD9-4871-BC63-05F9E8EE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A67-80EB-4683-93C4-F70F746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3AA-2A2E-40F7-90DE-2D1DB5E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665-0747-4C4D-B1E8-73E197F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100-D6BB-4716-867B-C1EE8DF4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862-FF1C-4A57-9829-75DD4F5C6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en Lord Jesus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Horatius Bonar alt. by Hutson and Bows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Kenny Hutson and Katy Bowser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 Velveteen Music (SESAC)/Jiggyfoot Music (SESAC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urch has waited l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absent Lord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 in loneliness she wai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riendless stranger s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 after age has go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fter sun has s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ill, in weeds of widowh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eeps a mourner y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rpent's brood increas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owers of hell grow b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flicts thickens, faith is l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is waxing co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, O Lord our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and true and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thou not judge Thy suffering Churc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sighs and tears and blood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ong to hear thy v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Thee face to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hare Thy crown and glory th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now we share th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not the loving brid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bsent Bridegroom mour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she not wear the weeds of grief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il her Lord retur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hole creation groa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ait to hear that v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hall restore her comeli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her wastes rej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Lord, and wipe aw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urse, the sin, the s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ake this blighted world of ou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own fair world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hen, Lord Jesus, come, come,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05:49Z</dcterms:modified>
  <cp:revision>8</cp:revision>
  <dc:subject/>
  <dc:title>By Thy Mercy Words by James J. Cummins Music by Greg Thompson © 2004 Greg Thompson Music</dc:title>
</cp:coreProperties>
</file>