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B06-8AAB-42D3-A6FE-FD662468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87A-193D-4742-A41B-194CB7B2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52C-24DD-4516-9FA8-BCE8F03C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33A-23C4-41CD-912A-8393A320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327-2001-4803-9364-F609D396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B71-63FE-4C46-B8FD-05197021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E31-F174-40AA-AB3F-8002D8C4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F8B-1275-4611-955B-20750304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244-5CAC-4E44-94BE-8273F222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4E7-2ABA-4217-8D4F-3B98670C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CD7-6792-4599-BBF8-C52B149B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225-C817-4448-A4DF-FE1B850D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42AC-6BC0-4369-A5F6-0C4FBD6469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e Said Jesus’ Sacred Voice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nonymous (from Bonar's "Lyra Consolationis") alt. Kevin Twit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: Kevin Twit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©2007 Kevin Twit Music(ASCAP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Come," said Jesus' sacred v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Come, and make My paths your ch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guide you to your h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ary pilgrim, hither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Hither come, for here is f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m that flows for every w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ace that ever shall end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t eternal, sacred, 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t eternal, sacred, s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59:24Z</dcterms:modified>
  <cp:revision>7</cp:revision>
  <dc:subject/>
  <dc:title>By Thy Mercy Words by James J. Cummins Music by Greg Thompson © 2004 Greg Thompson Music</dc:title>
</cp:coreProperties>
</file>