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1949-D2B3-426E-8B07-B092C8483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8763-53F8-4A92-84D4-CE1A6BD6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982D-1A1C-4C32-832C-159EBD6E5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3C66-862E-4F68-B7D0-7388FC915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B1CF-1F77-4708-998E-EFCB54D8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AEB1-2F39-4CC6-8A90-18F52EC8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0D7C-54BE-4575-B164-DF6707B0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9924-41F8-4646-A3EF-EA559E82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5686-EC43-4F84-ACE6-2E921121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235D-30BB-4E44-B9FB-7CA91B89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6C7D-1FD3-478A-B769-DCA25A6E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65EF-4119-472B-A377-D57B890D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4398-5477-44CB-AB93-4771620280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e Said Jesus’ Sacred Voice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Anonymous (from Bonar's "Lyra Consolationis") alt. Kevin Twit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sic: Kevin Twit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©2007 Kevin Twit Music(ASCAP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Come," said Jesus' sacred vo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Come, and make My paths your cho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ill guide you to your ho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ary pilgrim, hither c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Hither come, for here is fou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lm that flows for every wou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ace that ever shall end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t eternal, sacred, su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t eternal, sacred, su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1:59:24Z</dcterms:modified>
  <cp:revision>7</cp:revision>
  <dc:subject/>
  <dc:title>By Thy Mercy Words by James J. Cummins Music by Greg Thompson © 2004 Greg Thompson Music</dc:title>
</cp:coreProperties>
</file>