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69B-1984-4A30-B4A2-53F48DA6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D94-8000-498F-ABE8-5C6F29C7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7D0-A3E8-4564-9FA2-AD8B92E3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67C-A333-491A-B09A-FDFDD490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60F-72B3-4ACA-B00C-7A207BE1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D07-2C61-483E-B3BA-81DB565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D49-9026-454B-83AE-F8EB1B6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88C-5A19-47AB-918A-FBDB7246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6FA-F793-4220-AF5B-692E646A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A10-782A-4B6C-8350-03C62DF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D65-7BF7-4898-A4DF-511C125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6EE-BE8A-4F2A-A486-7B0D30C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0FDC-39F7-4537-BD8A-6B03AF9A2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e, Christians Join to Sing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ristian Batem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Spanish Folk Melod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Christians, join to s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ud praise to Christ our K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, with heart and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His throne rejoic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is His gracious choi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lift your hearts on hig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praises fill the sk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our Guide and Frie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s He'll condesce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ove shall never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yet our Christ a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shall not end the strai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heaven's blissful sh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oodness we'll ado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forever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Alleluia! Amen!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7:05Z</dcterms:modified>
  <cp:revision>5</cp:revision>
  <dc:subject/>
  <dc:title>By Thy Mercy Words by James J. Cummins Music by Greg Thompson © 2004 Greg Thompson Music</dc:title>
</cp:coreProperties>
</file>