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2E5-E72E-41D9-BEDA-FA3FEFA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8C1-8EC6-4F95-907D-0E6601F7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18C-7A9D-4635-8CC0-2612C457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0B6-D4E7-4A4B-89BE-C0AA39EF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1C2-CF73-41E1-A05C-66A629D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7B3-533B-4409-AA58-624B00DE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4E5-9A05-49A0-8CB7-DFF06D4B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890-4BB6-41AB-A9E4-54388A6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BCB-B48E-4753-970D-9A8C0D2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459-EF0D-4428-BB39-75B3A7F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8EB-256A-4CF4-B913-D1A6CE1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0ED-F845-4CF1-8AAD-49BF605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F21-562A-4CB6-BBDE-567B655A4B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e, Christians Join to Sing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ristian Batem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Spanish Folk Melod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Christians, join to s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d praise to Christ our K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, with heart and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His throne rejoic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is His gracious choi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lift your hearts on hig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praises fill the sk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our Guide and Frie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s He'll condescen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ove shall never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yet our Christ ag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shall not end the strain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me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heaven's blissful sh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oodness we'll ado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ing forever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Alleluia! Amen!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7:05Z</dcterms:modified>
  <cp:revision>5</cp:revision>
  <dc:subject/>
  <dc:title>By Thy Mercy Words by James J. Cummins Music by Greg Thompson © 2004 Greg Thompson Music</dc:title>
</cp:coreProperties>
</file>