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E0A-8559-4473-8CF4-A9768A7C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23-D51C-4E64-B22E-96735B1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F2F-CDE2-465F-881C-55E78C65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B08-6494-4D81-AAB0-3D2B55FA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F5C-468D-4B38-B224-5EC30917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990-B7F3-4B18-958D-C42C2EB4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A8B-F569-4A07-9A29-471AC7F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87F-6FD9-4ECE-BD30-19DE3F5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598-D15B-4D2F-B600-1DACA4EA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F5C-46EB-4973-8C1C-84EE5E2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25D-2CD6-4A2D-81C8-822B23F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B08-E1C1-4509-8412-07B687D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B714-D2AC-47C9-BD04-87B4C1B05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ng to the Crucified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onymous (from Bonar's "Lyra Consolationis") alt. Kevin Tw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Kevin Twi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7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Mighty One, Cling in thy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Holy One, He gives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Gracious One, Cling in thy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Faithful One, He will su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Living One, Cling in thy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Loving One, Through all be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Pardoning One, He speaketh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Healing One, Anguish wi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Bleeding One, Cling to His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Rising One, In Him ab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oming One, Hope shall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Reigning One, Joy lights thine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5:25Z</dcterms:modified>
  <cp:revision>4</cp:revision>
  <dc:subject/>
  <dc:title>By Thy Mercy Words by James J. Cummins Music by Greg Thompson © 2004 Greg Thompson Music</dc:title>
</cp:coreProperties>
</file>