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CA0-D350-4101-A279-BE7B8131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73A-DC5F-4993-A194-E0A926C9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475-680B-4173-820F-7A94B752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FFA-E89A-4F56-9EAD-F904A15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C9F-84C0-4D04-A0A2-F4879A05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1FA-ED98-4C47-96FB-81749ECC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DCF-3CB8-4FBA-819F-EC3CEAF6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E51-F2A8-4A8F-B0E4-3805B67F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C13-A1BC-4892-B57F-6116E36A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9FB-561F-422D-B054-D795E60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E80-9826-4E70-863B-EED1571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E6C-3CFE-4507-BFC7-631EC92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992-34FD-40E3-A98F-68833A141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ng to the Crucified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onymous (from Bonar's "Lyra Consolationis") alt. Kevin Tw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Kevin Twit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2007 Kevin Twit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Mighty One, Cling in thy g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Holy One, He gives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Gracious One, Cling in thy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Faithful One, He will sus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Living One, Cling in thy w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Loving One, Through all be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Pardoning One, He speaketh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Healing One, Anguish will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Bleeding One, Cling to His 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Rising One, In Him ab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oming One, Hope shall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Reigning One, Joy lights thine 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Lamb who d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 to the crucified, Jesus the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5:25Z</dcterms:modified>
  <cp:revision>4</cp:revision>
  <dc:subject/>
  <dc:title>By Thy Mercy Words by James J. Cummins Music by Greg Thompson © 2004 Greg Thompson Music</dc:title>
</cp:coreProperties>
</file>