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E0D-36C0-4C2D-979A-27D4E26E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50F-DD0A-42B8-8775-52E3B464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523-DA2F-4A7B-AF29-9F71A0B4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F3D-C468-47C2-BE67-450616CC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F1F-B8F5-49AC-B435-8999677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9B2-AA29-43F6-BA75-7C98C44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94F-B7B6-4456-9579-934F0AD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2F8-2895-4176-B721-F46BD0F5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622-F266-4674-970E-7782937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576-A6EA-4CBB-97AB-CC2E16B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EEF-E032-4B87-AD42-81D9C1E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B28-BF3F-4878-913E-627C59E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EF5-1158-474F-B12D-34A57ED42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rist the Lord is Risen Today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Latin Carol   Music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yra Davidic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, the Lord, is risen today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s of men and angels say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your voice and triumphs high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, ye heavens, and earth, reply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in the stone, the watch, the seal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burst the gates of hell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 in vain forbids His rise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has opened Paradise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s again our glorious King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, O death, is now thy sting?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He died, our souls to save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y victory, O grave?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ar we now where Christ has led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llowing our exalted Head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like Him, like Him we rise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s the cross, the grave, the skies,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, the Lord of earth and heaven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o Thee by both be given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e greet triumphant now,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, the Resurrection, thou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50:50Z</dcterms:modified>
  <cp:revision>2</cp:revision>
  <dc:subject/>
  <dc:title>By Thy Mercy Words by James J. Cummins Music by Greg Thompson © 2004 Greg Thompson Music</dc:title>
</cp:coreProperties>
</file>