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A97-B56D-4056-B2EB-A02EA413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31D-1A12-4BB5-A1EF-277CC033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3D3-B67B-419C-AEAF-57C15503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9EE-7206-4937-804C-A66E98B5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7CF-11BA-49E5-9511-0AD7D556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9FF-5D42-446D-9171-B3D32E1C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FA9-6783-4D6F-B1B9-4773E44D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6F1-D7FD-493F-8D9F-108E85A0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F09-6DB0-4138-8BC9-FAD0D915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B37-5526-4B2A-B53E-13016994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F25-F25F-4263-8407-D0430B40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DA8-DDC9-445E-8628-ADE2F1AE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32E8-6AF6-4319-B415-8DF45F3398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rist the Lord is Risen Today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Latin Carol   Music: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yra Davidic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Public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, the Lord, is risen today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ns of men and angels say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your voice and triumphs high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, ye heavens, and earth, reply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in the stone, the watch, the seal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has burst the gates of hell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th in vain forbids His rise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has opened Paradise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es again our glorious King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, O death, is now thy sting?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He died, our souls to save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thy victory, O grave?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ar we now where Christ has led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llowing our exalted Head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e like Him, like Him we rise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s the cross, the grave, the skies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, the Lord of earth and heaven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o Thee by both be given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e we greet triumphant now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, the Resurrection, thou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0:50Z</dcterms:modified>
  <cp:revision>2</cp:revision>
  <dc:subject/>
  <dc:title>By Thy Mercy Words by James J. Cummins Music by Greg Thompson © 2004 Greg Thompson Music</dc:title>
</cp:coreProperties>
</file>