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958-5776-4589-AA16-16F38C19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FB2-A69E-447E-B355-9EE9E7A1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A7B-6019-4405-B5B5-A39D76B6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106-1E47-428F-8E56-D3E8E904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47B-459D-459F-B611-97A42401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13C-4B06-4280-9219-2626BAD1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490-1FC9-4BC7-8D76-CB38AECF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5BA-7F1F-4B4C-B017-84DC2CEB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724-8305-408B-B6B2-4221551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30A-6108-407F-97A0-BD8D6E0F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5C3-81A9-49B5-828A-A1518D9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155-9092-4E09-B6E7-E9140EA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54A-543D-4B84-96DA-0B56BDF894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y Thy Mercy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 by James J. Cummins Music by Greg Thompson © 2004 Greg Thompson 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rd of life and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d from heaven thy gracious 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our waiting souls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 of helpless sinners, hea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depth of nature's blin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hardening power of s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all malice and unkin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pride that lurks with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, good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emptation sorely press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day of Satan's pow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ur times of deep distress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ach dark and trying ho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world around is sm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time of wealth and ea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ly joys our hearts begu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day of health and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, good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weary hours of sick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times of grief and p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feel our mortal weak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human help is v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olemn hour of d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awful judgment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our souls, on thee rel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e still our Rock and St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, good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47:51Z</dcterms:modified>
  <cp:revision>1</cp:revision>
  <dc:subject/>
  <dc:title>By Thy Mercy Words by James J. Cummins Music by Greg Thompson © 2004 Greg Thompson Music</dc:title>
</cp:coreProperties>
</file>