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8D5-1F65-44EE-8C39-D8E94E29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47C-A40B-44F8-9058-1017AA6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CC8-AECD-42BB-8858-63C68BA0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3AE-4827-485C-8E75-7D7F9A2E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056-39BA-4D89-BAA6-5A42C21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B0E-0EDE-48B9-930F-F5FFAE6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B8B-8205-45A3-9C00-E9E75D66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60B-5E90-48E0-A53A-C9D2480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422-7F76-4CBC-874B-10C84CC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C00-8921-4E22-9925-3995FC1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F8E-DADC-408C-BB38-14F7F44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A0E-6609-418C-825D-87E15BB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BEC-60D7-454F-A18F-B9588D9725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y Thy Mercy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James J. Cummins Music by Greg Thompson © 2004 Greg Thompson 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 of life and gl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d from heaven thy gracious 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our waiting souls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 of helpless sinners, h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depth of nature's blin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hardening power of s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all malice and unkind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pride that lurks with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mptation sorely press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ay of Satan's p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times of deep distress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ach dark and trying ho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rld around is sm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ime of wealth and ea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ly joys our hearts begu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ay of health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eary hours of sick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imes of grief and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feel our mortal weak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human help is v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olemn hour of d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awful judgment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our souls, on thee rely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e still our Rock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thy mercy, O deliver us, good Lord, good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7:51Z</dcterms:modified>
  <cp:revision>1</cp:revision>
  <dc:subject/>
  <dc:title>By Thy Mercy Words by James J. Cummins Music by Greg Thompson © 2004 Greg Thompson Music</dc:title>
</cp:coreProperties>
</file>