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9B9-8BDC-4650-AF71-882B8EF5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B54-9232-4E5C-AEC9-C09F0F3B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65E-7F73-4CFE-85BD-CCEA2E10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784-0E6B-43BD-8BA6-2D201C8A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885-5B58-47CE-861B-2E131E59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FCF-F638-4EA9-BD3F-D988101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9BB-2A4A-407D-A949-6F130F14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DB0-2635-4E6F-A8C4-9D9FF35C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308-1D44-4585-AEE5-05A075AE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E1B-97C3-44CE-81A5-5F02BA9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C87-AEB7-412A-A96B-8C5C220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7EF-3D76-48DA-A521-96CD8FF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382-EB3A-487E-9B24-C4475D40B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essed Be the Tie that Bind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Fawcett    Music: Wendell Kimbrough  ©2001 Wendell Kimbrough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be the tie that bin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in Christian lov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ellowship of kindred mi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like that to that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our Father's thr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pour our ardent prayer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fears, our hopes, our aims are 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comforts and our ca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share each other's wo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mutual burdens b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ften for each other flow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ympathizing t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asunder 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gives us inward pai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e shall still be joined in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pe to meet a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glorious hope reviv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courage by the wa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each in expectation liv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ngs to see the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orrow, toil and pai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, we shall be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rfect love and friendship reig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7:36Z</dcterms:modified>
  <cp:revision>15</cp:revision>
  <dc:subject/>
  <dc:title>By Thy Mercy Words by James J. Cummins Music by Greg Thompson © 2004 Greg Thompson Music</dc:title>
</cp:coreProperties>
</file>