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204-014F-4E47-BC14-80AFE7CC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C69-49B6-40BE-A9CC-515DB50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B59-791A-4273-84CB-A8B225B6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993-C248-4F28-B3EE-EA18BC1C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E4C-F7B5-48DA-933F-C02336B9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412-8172-439A-A808-FCEB7B22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AE3-5CE4-4025-8DAB-08338C5C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00F-4D83-4573-81BB-8512005F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2E2-265D-4B1D-9295-6995247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76F-EF53-49F6-8270-EB09A5A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752-0935-4A81-8E3F-21F8190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193-D156-46FD-BBFD-6D027DE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C62-4BBA-4175-A020-9EE9110F0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essed Be the Tie that Bind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Fawcett    Music: Wendell Kimbrough  ©2001 Wendell Kimbrough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be the tie that bin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in Christian lov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llowship of kindred m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like that to tha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our Father's thr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pour our ardent prayer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ears, our hopes, our aims are 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comforts and our ca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share each other's wo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utual burdens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ften for each other flow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ympathizing t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asunder 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gives us inward pai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e shall still be joined in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pe to meet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lorious hope reviv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courage by the wa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each in expectation liv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ngs to see the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orrow, toil and pai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, we shall be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rfect love and friendship reig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7:36Z</dcterms:modified>
  <cp:revision>15</cp:revision>
  <dc:subject/>
  <dc:title>By Thy Mercy Words by James J. Cummins Music by Greg Thompson © 2004 Greg Thompson Music</dc:title>
</cp:coreProperties>
</file>