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479-A8DC-40A1-AEF6-A43426FC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AAD-9D63-4AE0-B63C-2C6FB974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610-EBFF-482F-BE94-857EE061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947-0415-4D28-9A11-14F2245C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803-EEE2-4025-A107-B649CB2A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163-113A-4E55-BAD6-582F679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573-67C5-452B-8BB1-E2FD508E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0B9-2F33-483C-9DDF-03BBF877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BB1-9FA0-477B-ADFC-F40A8D2A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999-C827-48F0-ABA2-EA4B37F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3EC-5315-4AB4-BCEF-56535C97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8D7-BB79-42F2-8856-70865D0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801B-B8A2-489A-8CB4-165559018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 Thou My Visio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. Ancient Irish hym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vi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 of my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 be all else to 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that Thou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y best thou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day or by n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king or sleep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resence my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wis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 my true W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ever with Thee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with me,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y great Fat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Thy true s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in me dwell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with Thee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hes I heed no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man’s empty pra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ine inheritan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and alway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nd Thou onl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my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king of heav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treasure Thou 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king of heav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victory w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 reach heaven’s joy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right heaven’s s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t of my own he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ver befa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be my vi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ruler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7:11Z</dcterms:created>
  <dc:creator>Zachary</dc:creator>
  <dc:description/>
  <dc:language>en-US</dc:language>
  <cp:lastModifiedBy>Zachary</cp:lastModifiedBy>
  <dcterms:modified xsi:type="dcterms:W3CDTF">2013-01-04T00:39:01Z</dcterms:modified>
  <cp:revision>1</cp:revision>
  <dc:subject/>
  <dc:title>Be Thou My Vision Public Domain. Ancient Irish hymn.</dc:title>
</cp:coreProperties>
</file>