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42EF-301A-4288-9942-1711C513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00CC-B523-456C-97BB-6D584205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5D8-DCA4-43D8-B11E-279DAC1B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322-1032-4667-858D-D938F2C9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525-07DC-4C18-98C4-5B9400AB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785-EAC1-42B2-A206-51321802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8E3E-E287-4A7B-BE3A-6990C826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C0D-259C-499A-A10D-6BB26DEB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56A7-08FA-4AC7-B8F2-9DA7F3F2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56C4-0807-4772-8427-EAE80A40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2BBF-2ECA-4DDB-B158-5AA59BCB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0B3F-402F-4B08-9AB5-1AF8ED52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4703-BA89-4CCE-9E79-60DC1D3519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 Thou My Vision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Domain. Ancient Irish hym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Thou my vis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rd of my hear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ught be all else to m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e that Thou 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my best though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day or by n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king or sleep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presence my l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Thou my wisdo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ou my true Wor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ever with Thee 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with me, Lor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my great Fath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Thy true so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in me dwell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with Thee 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hes I heed no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man’s empty prai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mine inheritan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and alway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nd Thou onl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st in my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 king of heave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treasure Thou ar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 king of heave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victory w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I reach heaven’s joy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right heaven’s su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rt of my own hear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ver befa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ill be my vis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ruler of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37:11Z</dcterms:created>
  <dc:creator>Zachary</dc:creator>
  <dc:description/>
  <dc:language>en-US</dc:language>
  <cp:lastModifiedBy>Zachary</cp:lastModifiedBy>
  <dcterms:modified xsi:type="dcterms:W3CDTF">2013-01-04T00:39:01Z</dcterms:modified>
  <cp:revision>1</cp:revision>
  <dc:subject/>
  <dc:title>Be Thou My Vision Public Domain. Ancient Irish hymn.</dc:title>
</cp:coreProperties>
</file>