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87E-41AF-4972-A811-CF32253C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AC2-F172-4504-9DB3-3C469984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E95-8D3D-4040-A7CE-1A3B87EE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B2A-A1C1-491F-996F-74A59168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341-749A-4E3D-9910-284FAF6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EA5-0B60-419E-91A7-284D546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7F2-BF31-45C8-A7BE-7FB4888A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E92-41FE-4420-A2C9-97FF3E8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B3B-E332-437B-8478-DCC109B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F35-7B76-4166-98F0-2E0E8440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533-DE79-47F4-8958-9990829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D22-D23E-4974-BAEC-B0A1638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15C1-5396-4A6D-91A2-B2A758AB0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 Still My Soul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Katharina A. von Schlegel    Music: Jean Sibelius 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Lord is on thy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 patiently the cross of grief or pa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to thy God to order and provid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change, He faithful will rema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best, thy heavenly Frie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orny ways leads to a joyfu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God doth underta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guide the future, as He has the pa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ope, thy confidence let nothing shak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now mysterious shall be bright at la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waves and winds still kn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voice who ruled them while He dwelt be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when dearest friends dep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s darkened in the vale of t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t thou better know His love, His he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omes to soothe thy sorrow and thy fea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y Jesus can rep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is own fullness all He takes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hour is hastening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shall be forever with the Lor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isappointment, grief, and fear are g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ow forgot, love's purest joys resto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when change and tears are pas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safe and blessed we shall meet at l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begin the song of p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earth, believing, to thy Lord on high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knowledge Himin all thy works and w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shall He view thee with a well-pleased e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till, my soul: the Sun of life div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passing clouds shall but more brightly s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1:40:31Z</dcterms:modified>
  <cp:revision>15</cp:revision>
  <dc:subject/>
  <dc:title>By Thy Mercy Words by James J. Cummins Music by Greg Thompson © 2004 Greg Thompson Music</dc:title>
</cp:coreProperties>
</file>