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59D-EAA9-400A-B0B4-5C94A443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7BD7-2FB9-4E9C-AB5F-BF3D1951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8FC-6C69-4A62-8F37-5636B17D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245-9939-4CB2-9C82-40BAD725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6F9-46CB-467C-9B8F-C0BE304A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9638-EA38-4A07-9489-DB2C8F34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73C-DF23-4E8C-95F3-4AF05B7F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EADD-8869-41D7-857A-67AFF667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F922-0411-4FD4-93B4-117DF6B1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7F3-ABD6-4956-A742-25316802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58FF-29FE-4EB7-B045-015E1839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3524-D9B9-4E94-8113-B0DF93B2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28C7-B1F2-4BE3-9EE7-B2F82C0097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 Still My Soul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Katharina A. von Schlegel    Music: Jean Sibelius  Public Dom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till, my soul: the Lord is on thy s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r patiently the cross of grief or pai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ve to thy God to order and provid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very change, He faithful will remai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till, my soul: thy best, thy heavenly Frie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thorny ways leads to a joyful 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till, my soul: thy God doth underta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guide the future, as He has the pas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hope, thy confidence let nothing shak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now mysterious shall be bright at las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till, my soul: the waves and winds still know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voice who ruled them while He dwelt bel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till, my soul: when dearest friends depar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is darkened in the vale of tea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shalt thou better know His love, His hear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comes to soothe thy sorrow and thy fear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till, my soul: thy Jesus can rep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His own fullness all He takes a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till, my soul: the hour is hastening 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e shall be forever with the Lor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disappointment, grief, and fear are g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row forgot, love's purest joys restor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till, my soul: when change and tears are pas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safe and blessed we shall meet at la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till, my soul: begin the song of pra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earth, believing, to thy Lord on high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knowledge Himin all thy works and way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shall He view thee with a well-pleased ey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till, my soul: the Sun of life divi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passing clouds shall but more brightly sh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40:31Z</dcterms:modified>
  <cp:revision>15</cp:revision>
  <dc:subject/>
  <dc:title>By Thy Mercy Words by James J. Cummins Music by Greg Thompson © 2004 Greg Thompson Music</dc:title>
</cp:coreProperties>
</file>