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AC7B-2DC4-480D-BCEC-6FF827F61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43D9-53B2-415D-A726-E8AE8B1C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B428-C4F9-480B-8373-D78687A7E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603F-02F5-402C-8B0C-1858AFA31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B67E-A1C1-4224-B215-AA98FB7C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3474-E808-44C3-871A-2E946DF5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284F-A908-47AE-A18A-45D7EC02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8584-24C7-4F7A-B473-A65A557A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370F-7ACB-4A11-8240-0A154AAD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7AAB-8947-4BAA-A670-1407795C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31F7-1C0A-41CB-B4FE-5749CFB5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34F0-1EE1-45E4-99D5-C1084686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0C41-7F06-4BF1-AC58-4D569C20A3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eneath the Cross of Jesus</a:t>
            </a:r>
            <a:br>
              <a:rPr sz="40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ds: Elizabeth C. Clephane    Music: Chris Miner © 1997, Christopher Miner Musi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eath the cross of Jesus I fain would take my stan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:The shadow of a mighty rock within a weary land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: The sha————dow in a weary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:A home within the wilderness, a rest upon the wa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: A home, a rest, upon the 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the burning of the noontide heat, and the burden of the 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on the cross of Jesus, mine eye at times can s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:The very dying form of One Who suffered there for m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: The ver————y dying One for m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:And from my stricken heart with tears two wonders I conf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: And from my heart, I con—f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nders of redeeming love and my unworthi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295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take, O cross, thy shadow for my abiding pla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:I ask no other sunshine than the sunshine of His fac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: I ask, no o–ther than His fac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:Content to let the world go by to know no gain nor los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: Content to know no gain nor lo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sinful self my only shame, my glory, all the cro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1:45:05Z</dcterms:modified>
  <cp:revision>16</cp:revision>
  <dc:subject/>
  <dc:title>By Thy Mercy Words by James J. Cummins Music by Greg Thompson © 2004 Greg Thompson Music</dc:title>
</cp:coreProperties>
</file>