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049-28EF-4332-9FE2-C89CDA01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288-5381-40EE-895B-AEFA2C1E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F86-2996-4E59-80D4-352CE2C7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D87-17DA-471D-AEC9-DE783114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339-0C89-43A2-9276-248F237F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A14-651E-400B-A060-08790584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10C-45F5-497A-A337-7A083AC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307-A0DA-4D6B-A5D1-EFF93B1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3AC-867A-4736-B115-1B395D4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6D2-1FDB-4567-B27A-D9931ACB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4A3-25DD-44F0-9706-DE492A8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38D-16CF-428A-838F-314FF4E3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80F0-3A22-4743-98F2-CB51D617B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neath the Cross of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Elizabeth C. Clephane    Music: Chris Miner © 1997, Christopher Miner Mus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ath the cross of Jesus I fain would take my sta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The shadow of a mighty rock within a weary lan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The sha————dow in a weary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A home within the wilderness, a rest upon the w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A home, a rest, upon th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burning of the noontide heat, and the burden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the cross of Jesus, mine eye at times can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The very dying form of One Who suffered there for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The ver————y dying One for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And from my stricken heart with tears two wonders I conf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And from my heart, I con—f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nders of redeeming love and my unworth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ake, O cross, thy shadow for my abiding pl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I ask no other sunshine than the sunshine of His fa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I ask, no o–ther than His fa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:Content to let the world go by to know no gain nor lo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: Content to know no gain nor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inful self my only shame, my glory, all the cr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5:05Z</dcterms:modified>
  <cp:revision>16</cp:revision>
  <dc:subject/>
  <dc:title>By Thy Mercy Words by James J. Cummins Music by Greg Thompson © 2004 Greg Thompson Music</dc:title>
</cp:coreProperties>
</file>