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9DF-A430-4039-A90C-1705ECB8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E8F-3F43-4C54-98B1-11137EF9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E32-A436-433D-96D3-6AD4F684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DCE-82E8-4E97-8236-F7F6F97C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5D3-8FD8-4083-BE81-AE3A6E97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C3C-FEC8-42C1-A005-027025B9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9FA-79C3-4335-9292-C90A22B8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424-39B6-4DA5-9882-FE51B0C9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DE4-E1DD-47A6-B0E9-FA4A546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0E8-E992-4F0E-ADA4-763AA1AA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9B7-E305-4A12-89FA-02F863D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15F-11A6-47F3-9994-AC53D184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7E7-075C-477A-9ED3-C2C932C9F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gone Unbelief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, Kevin Twit    Music: Kevin Twit  ©2005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My Savior is n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my relief Will surely appea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faith let me wrest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od in the st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lp me my Savior, the faith to ado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lp me my Savior, the faith to ado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dark be my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he is my gu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mine to obey, and His to prov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should I complain, Of want or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ation or pain? He told me no 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irs of salvation, I know from his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uch tribul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llow their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uch tribul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llow their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all that I meet will work for my g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itter is sweet, The medicine f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painful at presen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cease before l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n, O! how glorio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queror's song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n, O! how glorio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queror's so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36:40Z</dcterms:modified>
  <cp:revision>14</cp:revision>
  <dc:subject/>
  <dc:title>By Thy Mercy Words by James J. Cummins Music by Greg Thompson © 2004 Greg Thompson Music</dc:title>
</cp:coreProperties>
</file>