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6BA-EB27-4F93-B8C9-47622D35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561-9876-4FFF-8A25-05B85F92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D83-E373-4D7A-A160-1D5108F4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BBC-3FC4-4F25-8252-88D87A70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9A9-E008-430B-94C9-7281A336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238-1883-4E5C-AEFE-F587BDC1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B34-60D1-4C99-8C21-214DE65D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314-BB87-4756-A3FF-571B2130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CA2-7507-47F0-A0A2-9E0CF1FD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4BA-B7DC-45CA-A7E5-1FCD791A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317-3235-4292-91E3-32D2F719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67A-1D70-4409-8E11-516BDCAF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8BD6-0EC1-4691-A83E-DBAD95D2A2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gone Unbelief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Newton, Kevin Twit    Music: Kevin Twit  ©2005 Kevin Twit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My Savior is n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or my relief Will surely appea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faith let me wrestl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God in the st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lp me my Savior, the faith to ado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lp me my Savior, the faith to ado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dark be my w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he is my gu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mine to obey, and His to provi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cisterns be brok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eatures all fai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cisterns be brok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eatures all f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should I complain, Of want or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mptation or pain? He told me no 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eirs of salvation, I know from his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much tribul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follow their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much tribul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follow their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cisterns be brok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eatures all f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all that I meet will work for my g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itter is sweet, The medicine f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painful at presen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cease before l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n, O! how glorio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nqueror's song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n, O! how glorio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nqueror's song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one unbelief, The Savior is he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cisterns be brok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eatures all f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has spoken will surely pre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36:40Z</dcterms:modified>
  <cp:revision>14</cp:revision>
  <dc:subject/>
  <dc:title>By Thy Mercy Words by James J. Cummins Music by Greg Thompson © 2004 Greg Thompson Music</dc:title>
</cp:coreProperties>
</file>