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87B-F385-47DC-870F-522ADA4A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C5B-AFEB-42FA-98B3-2A08892C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FA0-F266-479E-97FB-FC09E095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F8F-9E32-4579-9B7E-DF64A9B2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DD5-F450-4EE8-A80E-054F2977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F17-AF99-4D6D-ACD3-36601755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92D-E306-4194-B3F6-04797898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E2E-A100-4BE4-8DC0-238C9411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F25-4A2B-4131-8553-A247DE18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F55-D24D-402A-A7CA-AF4A29D0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D0F-7910-49B1-BE07-5BB37141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6C8-C7B0-4FEB-A979-C69E91A9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B396-8360-44CE-A74F-3204490423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ams of Heave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es Tindley Music: Chris Miner   ©2004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ms of heaven as I g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the wilderness bel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ide my feet in peaceful way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n my midnights into d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n the darkness I would grop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always sees a star of hop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oon from all life's grief and dan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be free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be free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ten times my sky is clea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abounds without a t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a day so bright begu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ouds may hide tomorrow's su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'll be a day that's always br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day that never yields ton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its light the streets of gl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behold someday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behold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rder yet may be the figh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ght may often yield to m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ckedness a while may reign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tan's cause may seem to g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re's a God that rules abo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and of power and heart of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f I'm right, he'll fight my battl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have peace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have peace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rdens now may crush me dow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appointments all arou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oubles speak in mournful sig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ow through a tear-stained ey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a world where pleasure reig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urning soul shall roam its plain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that land of peace and gl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want to go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want to go some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33:39Z</dcterms:modified>
  <cp:revision>13</cp:revision>
  <dc:subject/>
  <dc:title>By Thy Mercy Words by James J. Cummins Music by Greg Thompson © 2004 Greg Thompson Music</dc:title>
</cp:coreProperties>
</file>