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E6D-1C4A-4A11-927A-35AF4A04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395-DDE4-4768-8B94-E8E319A4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A12-A2ED-4C5C-83A0-390C415E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4D1-F3FF-49CA-9E7E-AD0F25CF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D1D-6F3A-47C6-B1D4-AB832167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958-11D2-4608-AE99-AE842374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6BF-72F0-4D21-823E-F2B2C2C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C83-B8CA-4CFB-8158-31173852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D16-A0A6-4E73-9C5F-FE28665A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3A8-4A9E-4EFF-A5DB-34F9D16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3BA-A516-457A-B321-C4E47BD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216-5C3E-4476-8210-20FEBAF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6B0D-C1CE-4F47-9A65-AFC359657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ams of Heav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Tindley Music: Chris Miner   ©2004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ms of heaven as I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e wilderness be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my feet in peaceful way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my midnights into d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n the darkness I would grop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always sees a star of hop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on from all life's grief and d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 fre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 fre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en times my sky is cl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abounds without a t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a day so bright begu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uds may hide tomorrow's s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'll be a day that's always br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day that never yields ton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its light the streets of gl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hold someda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hold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der yet may be the fi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ght may often yield to m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ckedness a while may reig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an's cause may seem to 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re's a God that rules abo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and of power and heart of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f I'm right, he'll fight my batt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have peac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have peac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dens now may crush me dow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appointments all arou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oubles speak in mournful sig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through a tear-stained e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world where pleasure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urning soul shall roam its plai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that land of peace and gl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want to go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want to go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33:39Z</dcterms:modified>
  <cp:revision>13</cp:revision>
  <dc:subject/>
  <dc:title>By Thy Mercy Words by James J. Cummins Music by Greg Thompson © 2004 Greg Thompson Music</dc:title>
</cp:coreProperties>
</file>