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7761-1D5E-48B2-A974-34D974B9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6A68-7E8C-4E85-80AF-5863FD33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8D10-2369-431B-B56C-56CA045A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5186-0962-4DCA-9F0E-C01834F39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788D-CB33-40F4-BDAA-067CAE05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C76C-D9CA-4135-BFE4-36CAB74C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00A0-8D7C-41C7-8EA6-DC24173D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1BDE-3E8C-4C67-B064-8F440069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54DB-1EF7-4805-AAC7-194C70AF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1BBE-4892-4867-AA85-2A0E8C70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8EFE-F0FB-490A-ADD5-2FDD9975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7D49-AA0F-4602-ADAA-9552C5B7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1C57-C3E8-479C-B7C2-008D350DA3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wake My Soul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: Sandra McCracken Music: Sandra McCracken   ©2002 Same Old Dress Music (ASCAP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image of God invisib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firstborn of all lif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fore and withi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olds it all i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e name, one faith, one Chri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one is good enoug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ave himself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wake my soul tonigh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boast nothing el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trust no other source or nam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here else can I h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grace gives me fea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is grace draws me nea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ll that it asks it provid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one is good enoug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ave himself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wake my soul tonigh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boast nothing el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seam in this garmen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my rags to h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less than your lov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Jesus is m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I stand on the edges of Jord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the saints and the angels besid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my body is heal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 glory reveal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still I can boast only Chri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one is good enoug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ave himself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wake my soul tonigh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boast nothing el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17:06:04Z</dcterms:modified>
  <cp:revision>12</cp:revision>
  <dc:subject/>
  <dc:title>By Thy Mercy Words by James J. Cummins Music by Greg Thompson © 2004 Greg Thompson Music</dc:title>
</cp:coreProperties>
</file>