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AEC-3640-4319-B1B2-EF06FFCF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CF4-F7ED-4E8F-8A0A-912435E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3DF-4A68-4EF8-B414-9D203792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D77-D6AD-4383-9E5B-A1B74BEC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C5C-A74B-48F3-A3AF-3578294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ABB-9A9D-4888-BD09-86FD723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1D1-8017-4BBD-A1D1-B896006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26E-F2E6-47B4-BEC8-FE0055E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EAE-A211-4AB7-B286-4C4D9DCB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D5E-4F22-4768-9F87-05A9AE7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F04-1477-4452-AC31-DF97F23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66-1CED-479B-ABEA-EDED347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63DD-64A8-4FDE-8578-D61E0E96D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wake My Soul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Sandra McCracken Music: Sandra McCracken   ©2002 Same Old Dress Music 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age of God invisib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irstborn of all 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and withi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it all 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name, one faith, one Chr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ust no other source or n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here else can I h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race gives me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is grace draws me n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at it asks it prov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eam in this gar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rags to h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less than your l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Jesus is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tand on the edges of Jord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saints and the angels besi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body is h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glory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till I can boast only Chr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6:04Z</dcterms:modified>
  <cp:revision>12</cp:revision>
  <dc:subject/>
  <dc:title>By Thy Mercy Words by James J. Cummins Music by Greg Thompson © 2004 Greg Thompson Music</dc:title>
</cp:coreProperties>
</file>