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B08-1750-4151-9C06-AFFEF77F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3E1-E8B1-4AC8-A12C-12BE2F12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B67-016C-4F7A-A3EA-E5309023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6EC-F5B7-4ABE-9A08-437926D6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A08-56EB-4B95-A113-55B63338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A3E-D8C1-4EA5-BEE5-A42AA569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32C-8248-43DC-8953-9DD66BD9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6E8-54ED-404A-A964-E7AE0029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489-7C9F-4C46-AE8E-4D5E5084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27D-2757-4E93-B533-AFF42B9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E86-6145-408D-94E3-7E62C21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F83-5B7D-440A-9771-C103B516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4B3D-48E3-46DB-AB20-89B6D8F6C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Sinner’s Cry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amuel Medley   Music: Katy Bowser ©2002 Velveteen So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, gracious God, a sinner's c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have nowhere else to f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ope, my only hope's in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po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it for mercy at Thy do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eed, I've nowhere else to fl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wea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carce know how to pray or spea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fear and weakness set me f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vi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me, Lord, vouchsafe to smil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, through blood, I make my pl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gre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ll Thou knowest all my stat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full forgiveness is with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lo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have I aught wherein to tru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ere Thou art, Lord, I would b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 be merciful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lory bring me, Lord, at l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, when all my fears are pa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all Thy saints, then, I'll ag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has been merciful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32:53Z</dcterms:modified>
  <cp:revision>4</cp:revision>
  <dc:subject/>
  <dc:title>By Thy Mercy Words by James J. Cummins Music by Greg Thompson © 2004 Greg Thompson Music</dc:title>
</cp:coreProperties>
</file>