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3ABB-9A3B-495B-96BC-32F27490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9713-C488-437A-8610-52B9ECE6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0839-EF2D-4E71-850E-18FAC3DEE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F284-3331-4454-B11A-128043A8D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D289-657F-46D0-9C63-2F83CCA5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96C0-C9C6-4653-866E-AF8FAB91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84EE-E699-4C56-A770-D41782DF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6EEF-ED20-43DD-AD3B-1B84DEEE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C65D-AA25-4D2E-AFA1-0A74A005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2F7D-B329-4E45-8B46-B7AAA97F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D586-A206-4651-BA45-84EA39AA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89CA-33FD-4F4C-B8CD-F4E98A41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ED4E-4163-4550-B5BA-0F99B8FEE5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Sinner’s Cry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Samuel Medley   Music: Katy Bowser ©2002 Velveteen So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r, gracious God, a sinner's c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I have nowhere else to fl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hope, my only hope's in Th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God, be merciful to m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e I come, a sinner poo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ait for mercy at Thy doo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deed, I've nowhere else to fle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God, be merciful to 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e I come, a sinner weak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carce know how to pray or speak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fear and weakness set me fre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God, be merciful to me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e I come, a sinner vi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pon me, Lord, vouchsafe to smil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rcy, through blood, I make my pl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God, be merciful to 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e I come, a sinner grea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ell Thou knowest all my stat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t full forgiveness is with Th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God, be merciful to m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e I come, a sinner los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have I aught wherein to trus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where Thou art, Lord, I would b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God be merciful to 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glory bring me, Lord, at la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re, when all my fears are pas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all Thy saints, then, I'll agre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has been merciful to 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16:32:53Z</dcterms:modified>
  <cp:revision>4</cp:revision>
  <dc:subject/>
  <dc:title>By Thy Mercy Words by James J. Cummins Music by Greg Thompson © 2004 Greg Thompson Music</dc:title>
</cp:coreProperties>
</file>