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98C-03D9-49FF-AACA-B42A01E9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83C-3639-4F45-88B0-53B99A54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2E6-3867-47D8-AB27-0756F1C2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E2C-C914-414F-BB35-C9A7E6D3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593-639E-4918-8AE7-132FB7BA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B82-4FE8-419C-850E-76F21497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EEB-5430-48D5-9570-E346C86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22D-948F-4DA2-8C30-AA9A0AF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DC6-5FD9-4CC7-A853-92D7332B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B7C-02EC-460E-A07A-6343506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D64-FA88-40CF-A7DE-DF7BEAF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87B-1BDB-4954-9000-450B953D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E39F-4904-4419-A267-89F6E7B359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rise O God and Shin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Hurn Music: Chris Miner   ©2004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O God, and shi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ll Thy saving m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osper each desig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pread Thy glorious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ealing streams of mercy flo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all the earth Thy truth may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distant nations n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ing Thy glorious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people h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arn Thy holy w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ign, mighty God, assert Thy cau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overn by Thy righteous la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forth Thy glorious pow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everyone may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arth present her sto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converts born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, our own God, His Church will bl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ill the world with righteous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od, the only Wi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ne immortal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allelujahs rise, from every living th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that breathe, on every co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Father, Son, and Holy Gho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7:03:23Z</dcterms:modified>
  <cp:revision>11</cp:revision>
  <dc:subject/>
  <dc:title>By Thy Mercy Words by James J. Cummins Music by Greg Thompson © 2004 Greg Thompson Music</dc:title>
</cp:coreProperties>
</file>