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26EF-FC6D-40E8-8556-B83FC3ED4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38B2-2922-4A4F-B14A-0F5F1A885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0EE6-4698-485A-B4CA-EC1F7667C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69F7-A698-403A-AD85-0BA2FE4A3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2C2A-6132-43D6-B8A9-A35893270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87B3-2883-4309-9F9C-B70005F37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78AB-7D5E-46FD-91EE-1E14EBB1F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0FA9-1FC0-4C3E-892E-F1A74595C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015E-98A6-4BCF-9AFE-75BCA2576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DA3C-9272-4AC1-9E07-7A7E29F2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60CD-E0AA-4675-A8F2-F2B542B3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E8B2-5A0B-4C28-AF4E-057E8A9B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8E4A7-20CF-4B1B-AEAD-98A9A3FB27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rise O God and Shine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William Hurn Music: Chris Miner   ©2004 Christopher Miner Musi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44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ise, O God, and shin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all Thy saving migh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prosper each desig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spread Thy glorious ligh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healing streams of mercy flow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all the earth Thy truth may kn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ring distant nations near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sing Thy glorious prais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every people hear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learn Thy holy way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ign, mighty God, assert Thy caus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govern by Thy righteous la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ut forth Thy glorious power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everyone may s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earth present her stor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converts born to The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d, our own God, His Church will bles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fill the world with righteousnes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God, the only Wis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one immortal K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hallelujahs rise, from every living thing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all that breathe, on every coast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 Father, Son, and Holy Ghos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17:03:23Z</dcterms:modified>
  <cp:revision>11</cp:revision>
  <dc:subject/>
  <dc:title>By Thy Mercy Words by James J. Cummins Music by Greg Thompson © 2004 Greg Thompson Music</dc:title>
</cp:coreProperties>
</file>