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8F5C-9F46-414F-9170-48AFABB7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63AD-127E-40DF-84F5-ECB5CFAC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4EBC-CE6A-4004-91D3-525094B7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C160-F2BB-42C1-A500-7747A2119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ACF6-74AD-4407-8552-BA4E8915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6077-F55D-4BBD-8D35-50747C53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0CFD-48C5-46C3-85DB-DD41A40D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0237-5CA9-420B-B3CF-D1AF9207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38B3-88B5-4E9F-9CDE-FE6BB9C0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679A-4985-4565-981F-86E1C3AF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52FE-0EE3-4BFB-9A85-DCB69589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E089-0487-4D2C-B36C-8842C348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59BE-0CA3-4392-B554-1A4FF9A2E0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rise, My Soul, Aris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Charles Wesley Music: Kevin Twit   ©1996 Kevin Twit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, my soul, aris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ke off your guilty fears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leeding sacrific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my behalf appears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fore the throne my Surety stand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fore the throne my Surety stand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name is written on His hand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, my soul, aris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, my soul, aris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ke off your guilty fears and r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, my soul, aris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, my soul, aris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ke off your guilty fears and r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ever lives abov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me to interced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all redeeming lov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precious blood, to plead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blood atoned for every rac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blood atoned for every rac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prinkles now the throne of gr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, my soul, aris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, my soul, aris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ke off your guilty fears and r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ve bleeding wounds He bear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ceived on Calvar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pour effectual prayers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strongly plead for m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Forgive him, O forgive," they c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Forgive him, O forgive," they c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Nor let that ransomed sinner die!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, my soul, aris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, my soul, aris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ke off your guilty fears and r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ather hears Him pra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dear anointed On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cannot turn aw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resence of His Son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pirit answers to the blo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pirit answers to the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ells me I am born of G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, my soul, aris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is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r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, my soul, aris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ke off your guilty fears and r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od is reconcile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pardoning voice I hear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owns me for His child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an no longer fea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confidence I now draw nigh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confidence I now draw nigh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"Father, Abba, Father," c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7:00:42Z</dcterms:modified>
  <cp:revision>10</cp:revision>
  <dc:subject/>
  <dc:title>By Thy Mercy Words by James J. Cummins Music by Greg Thompson © 2004 Greg Thompson Music</dc:title>
</cp:coreProperties>
</file>