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107-E927-4B39-920B-09AA5688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5B5-CB34-4ECF-874B-534CBFD0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A0A-5F23-41B7-82CD-203DC99F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B1F-6353-485C-9217-B4B63B3E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D28-FA11-4182-8303-039A75C9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5A2-6FC1-45C4-8B56-3F069B8F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130-E4B4-4FFD-BA4B-979CB0DC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6E9-EF88-4FCB-A717-9A2FFF25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A45-A578-4EE7-B220-F7B01C24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6DF-BAC4-42D2-8272-3131D682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CE1-65FB-4297-A94A-B8C465A3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A1F-CA5C-41FD-8733-ECE50018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3DCE-509B-4685-901D-573B8DD3ED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rise, My Soul, Aris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arles Wesley Music: Kevin Twit   ©1996 Kevin Twit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ke off your guilty fears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leeding sacrifi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y behalf appears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e throne my Surety stand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e throne my Surety stand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name is written on His han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ke off your guilty fears and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ke off your guilty fears and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ever lives ab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e to interced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all redeeming l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recious blood, to plea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blood atoned for every r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blood atoned for every r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prinkles now the throne of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ke off your guilty fears and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bleeding wounds He bear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eived on Calvar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pour effectual prayers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strongly plead for m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Forgive him, O forgive," they c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Forgive him, O forgive," they c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Nor let that ransomed sinner die!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ke off your guilty fears and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ather hears Him pr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dear anointed 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cannot turn aw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esence of His Son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pirit answers to the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pirit answers to the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ells me I am born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ke off your guilty fears and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 is reconcil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ardoning voice I hear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owns me for His chil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n no longer fe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onfidence I now draw nigh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onfidence I now draw nigh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"Father, Abba, Father," c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7:00:42Z</dcterms:modified>
  <cp:revision>10</cp:revision>
  <dc:subject/>
  <dc:title>By Thy Mercy Words by James J. Cummins Music by Greg Thompson © 2004 Greg Thompson Music</dc:title>
</cp:coreProperties>
</file>