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466-B596-4781-BB65-9211B01C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FC6-881A-44DC-9ED5-3A88476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775-4393-4602-89AF-76DE476D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235-3D58-4149-8547-36E31CE1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515-1A45-43E6-80A1-D057D76A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1B9-B40E-46CC-8904-70222240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18A-EB20-4AD0-BD12-CD5A65E9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ABC-5D4B-490C-8FB9-27402698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426-735B-4206-BA54-F0C81C6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9C9-7CE2-4AA8-854E-A1E9475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AFC-1542-4AE6-9A24-C20F895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26D-B02F-4095-ABEB-6F62035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E4E-DEF6-4428-9FFB-79E466004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rayer for the Brokenhearted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elsey Scott (Based on a prayer from "The Valley of Vision“)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elsey Scott  ©2006 Petit Bateau Music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day in my life has p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hasn't proved me guil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ers are uttered too fa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a heart that's cold and emp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Blesse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we find a covert in thy w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, they rise to meet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hey fall next to the merits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all in me calls for t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calls for my rej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heavy unrighteous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is there no prot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est services are rag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est deeds are filthy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Blesse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we find a covert in thy w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, they rise to meet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hey fall next to the merits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hear thy shoring vo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y wounds is pard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see thy willing choi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ake my hard heart soften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he broken-hearted sur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ging to thy cross, our cur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Blessed Jes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we find a covert in thy w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, they rise to meet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hey fall next to the merits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3:12:41Z</dcterms:modified>
  <cp:revision>27</cp:revision>
  <dc:subject/>
  <dc:title>By Thy Mercy Words by James J. Cummins Music by Greg Thompson © 2004 Greg Thompson Music</dc:title>
</cp:coreProperties>
</file>