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0D3-E1C4-4F69-B3A5-CEC24233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F0B-03DF-4B10-A43F-233B5BB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B8E-5266-4952-9DBD-FF037040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349-E149-4BC6-8F85-15FE7C63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45-C91A-43F4-9068-D1FE9E8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010-9C00-4781-9929-DEF275F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AAB-F601-4AF9-A652-0226087A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2F0-2B2B-4EDB-A5A4-E42BCCD4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AC9-E5AC-49C0-8AA2-7912A89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622-E53D-41E1-A502-ACE5DC5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0D6-D020-4B20-93B0-33131FB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A62-F382-4329-99B4-F49A5D4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E0A-41F3-49ED-B38B-59D94F301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rayer for the Brokenhearte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elsey Scott (Based on a prayer from "The Valley of Vision“)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elsey Scott  ©2006 Petit Bateau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day in my life has p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asn't proved me guil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s are uttered too fa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 heart that's cold and emp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all in me calls for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calls for my rej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avy un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is there no prot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est services are rag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est deeds are filthy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hear thy shoring v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y wounds is pard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see thy willing choi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my hard heart soften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he broken-hearted s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ing to thy cross, our cur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3:12:41Z</dcterms:modified>
  <cp:revision>27</cp:revision>
  <dc:subject/>
  <dc:title>By Thy Mercy Words by James J. Cummins Music by Greg Thompson © 2004 Greg Thompson Music</dc:title>
</cp:coreProperties>
</file>