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12F-8A54-4F14-94E5-0F7BDFC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ABA-2721-43E4-927B-C6E34E37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0E7-DA6A-4000-B27D-6BC7D726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CDF-11FC-4450-B02E-9921FB55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EFA-CD1A-46A3-8065-8DB2D61D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F0C-ADAE-421C-AE63-E4379189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EC3-EC56-4A1A-BD7D-A47C0CFD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434-C646-4C6C-B996-889427D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274-E8FC-42D1-B37E-7626638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036-A21F-4348-B0DE-CAD9D44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E56-8952-4DAC-80B7-5CC2ED2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905-0F1B-498F-9AF1-F305189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DE8-FEAA-4DDA-BAA3-B8291D9F5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roach, My Soul, the Mercy Seat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 John Newton   Music: Kevin Twit ©1998 Kevin Twit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romise is my only plea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is I venture nigh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callest burdened souls to The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uch, O Lord, am 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wed down beneath a load of sin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Satan sorely pressed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wars without and fears with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e for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shield and hiding plac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, sheltered near Thy 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ay my fierce accuser fac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ll him Thou hast d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ondrous love! To bleed and di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the cross and sh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guilty sinners, such as I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plead Thy gracious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8:08Z</dcterms:modified>
  <cp:revision>16</cp:revision>
  <dc:subject/>
  <dc:title>By Thy Mercy Words by James J. Cummins Music by Greg Thompson © 2004 Greg Thompson Music</dc:title>
</cp:coreProperties>
</file>