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08F-E6AC-4D61-858F-217DA7A5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57B9-5A85-4284-9F82-7EDEB525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BA9-B992-4525-9703-A63C67AC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B60-CC9A-47F2-ACB5-21EBA56D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B4E-FA25-4D56-8A0A-DD63D895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4FA-F3CC-4747-82D8-4587DB5A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17A-E49D-465C-9327-6221EC8C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680-133D-4C39-8EA9-EBEF935B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5F57-2F1D-4F77-80BD-916B8904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1C5-B63D-442D-B3C5-C8CC6240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E72-FFF9-4C7E-AACF-D3B7969E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EA5-FE0C-43AF-831B-787191CE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A267-A4AA-4BDA-B0A5-F13B661488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proach, My Soul, the Mercy Seat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 John Newton   Music: Kevin Twit ©1998 Kevin TwitMus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roach, my soul, the mercy sea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Jesus answers prayer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humbly fall before His feet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none can perish t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promise is my only plea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is I venture nigh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callest burdened souls to Thee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uch, O Lord, am 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roach, my soul, the mercy sea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Jesus answers prayer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humbly fall before His feet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none can perish t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wed down beneath a load of sin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Satan sorely pressed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wars without and fears with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ome to Thee for r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roach, my soul, the mercy sea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Jesus answers prayer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humbly fall before His feet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none can perish t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ou my shield and hiding plac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, sheltered near Thy s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may my fierce accuser fac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ell him Thou hast di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roach, my soul, the mercy sea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Jesus answers prayer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humbly fall before His feet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none can perish t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wondrous love! To bleed and di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ear the cross and sh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guilty sinners, such as I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ght plead Thy gracious na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roach, my soul, the mercy sea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Jesus answers prayer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humbly fall before His feet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none can perish t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58:08Z</dcterms:modified>
  <cp:revision>16</cp:revision>
  <dc:subject/>
  <dc:title>By Thy Mercy Words by James J. Cummins Music by Greg Thompson © 2004 Greg Thompson Music</dc:title>
</cp:coreProperties>
</file>