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11E1-BC27-41D7-8568-8040334E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E87F-5A02-4D07-BA87-125EC785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C286-B356-470A-BD82-E0572BD8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8D67-D329-44C8-BE4C-70224502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463D-9159-4FF5-844A-E4722201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6FC4-1F2F-4530-8EA9-757849A2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FD29-1CCB-4554-BAF4-2B6FD546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566A-C874-45FA-A980-0D0B6C08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1E69-C2C1-4A3F-B498-7716D0D8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BAC1-CEC9-4E46-B449-736499B3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BF18-BB0F-453A-8B4B-249E6C21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D1AF-EDCE-4316-95E5-A2B5460F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2057-FBFE-458D-9970-050AA8B645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d Can it B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 Charles Wesley Music: Scott Roley ©1994 Scott Roley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an it be that I should g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interest in the Savior's blood?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ed He for me who caused His pain!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me who Him to death pursued?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azing love! How can it be That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, my God, should die for m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azing love! How can it be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Thou, my God, should die for me!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azing love! How can it be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Thou, my God, should die for 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left His Father's throne above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 free, so infinite His grac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mptied Himself of all but love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led for Adam's helpless race.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mercy all, immense and free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O my God, it found out 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azing love! How can it be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Thou, my God, should die for me!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azing love! How can it be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Thou, my God, should die for 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ng my imprisoned spirit lay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st bound in sin and nature's night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e eye diffused a quickening r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oke, the dungeon flamed with ligh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chains fell off, my heart was fr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rose, went forth, and followed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azing love! How can it be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Thou, my God, should die for me!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azing love! How can it be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Thou, my God, should die for 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condemnation now I dread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and all in Him, is mine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ive in Him, my living Head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lothed in righteousness div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ld I approach the eternal throne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laim the crown, through Christ my 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azing love! How can it be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Thou, my God, should die for me!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azing love! How can it be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Thou, my God, should die for 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6:55:39Z</dcterms:modified>
  <cp:revision>15</cp:revision>
  <dc:subject/>
  <dc:title>By Thy Mercy Words by James J. Cummins Music by Greg Thompson © 2004 Greg Thompson Music</dc:title>
</cp:coreProperties>
</file>