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7A0-13B9-420F-B61B-5753AC4D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587-88AE-446A-A620-C081A6FE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CDE-2384-453F-BC10-A1EB3E52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0F6-BBC3-449F-8B0A-E4D79407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E7E-A105-483D-AD33-BA75D779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3D7-D4C2-4BED-AE5E-BA74A6CF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6D8-0A8F-42FC-ACD5-F1D4359E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BB4-18C3-4CE9-96F9-4145C691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FE0-C69E-44A6-805F-C0460E08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8F4-198E-459D-B626-0A2A2DD9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994-94B8-48D3-A34D-01B5CC2B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F32-E653-4ECD-B830-D49E3AF3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7039-C7DD-4AFD-BB21-3D064C20C9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d Can it B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 Charles Wesley Music: Scott Roley ©1994 Scott Roley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an it be that I should g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interest in the Savior's blood?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ed He for me who caused His pain!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e who Him to death pursued?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 That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, my God, should die for 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, my God, should die for me!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, my God, should die for 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eft His Father's throne abov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free, so infinite His grac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mptied Himself of all but lov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led for Adam's helpless race.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mercy all, immense and fre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O my God, it found out 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, my God, should die for me!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, my God, should die for 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g my imprisoned spirit lay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st bound in sin and nature's night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eye diffused a quickening r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oke, the dungeon flamed with l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chains fell off, my heart was f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rose, went forth, and followed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, my God, should die for me!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, my God, should die for 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condemnation now I dread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and all in Him, is mine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ive in Him, my living Head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lothed in righteousness div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ld I approach the eternal thron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laim the crown, through Christ my 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, my God, should die for me!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, my God, should die for 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55:39Z</dcterms:modified>
  <cp:revision>15</cp:revision>
  <dc:subject/>
  <dc:title>By Thy Mercy Words by James J. Cummins Music by Greg Thompson © 2004 Greg Thompson Music</dc:title>
</cp:coreProperties>
</file>