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300-E1CE-41D9-8873-2528F33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0AE-FF07-40CE-AC61-04C02495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51A-4C09-4F04-B21D-1E138805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39A-8483-4D10-B828-F45479DC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71B-A7B4-484D-BD43-5EB8E29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58A-9A72-48FE-97E8-A2CD3078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A12-4F65-4B8E-B82D-6B3E1F1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CB7-504C-4F20-9748-6FACCFB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A59-367C-4889-A7F3-EC3A451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226-74D1-40B8-AE65-07DD92C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FFF-F645-4766-83BD-13456B23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304-22F7-4967-A5B5-7A6BFBF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1012-7081-4B54-8A01-E4E5087AE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Mighty Fortress Is Our Go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 Words: Martin Luther   Music: Martin Lu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mighty fortress is our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ulwark never fail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lper He amid the fl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ortal ills prevail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till our ancient Fo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th seek to work us wo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raft and pow'r are gre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rmed with cruel hat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earth is not his equ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we in our own strength conf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triving would be los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not the right Man on our s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an of God's own choos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st ask who that may b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Jesus it is H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Sabbaoth His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age to age the sa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must win the batt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gh this world with devils fil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threaten to undo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not fear for God hath wil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ruth to triumph through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ince of Darkness gr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tremble not for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rage we can endu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lo his doom is su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little word shall fell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ord above all earthly pow'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thanks to them abidet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irit and the gifts are o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Him who with us sidet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goods and kindred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ortal life also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dy they may ki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truth abideth stil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gdom is forev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1:17Z</dcterms:modified>
  <cp:revision>3</cp:revision>
  <dc:subject/>
  <dc:title>By Thy Mercy Words by James J. Cummins Music by Greg Thompson © 2004 Greg Thompson Music</dc:title>
</cp:coreProperties>
</file>