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329-D6F7-40FD-A603-D6445EBF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BE4-F7BE-46DB-9B37-9B88ED4C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E02-817A-449E-9958-4CBF919A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657-7A00-4889-8DCA-8B68C021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91F-8AD9-474E-B259-444FC89C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FE4-0E76-42B9-9961-B098B705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C03-2219-428B-97F9-4A836212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884-84CA-4127-89C4-80E6AC5F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CE0-AF26-4143-8C8E-2B0CB5ED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E3D-E40B-4A7F-8D4B-74AEBE3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B05-2B03-441D-875E-26444941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8A4-301E-4081-BA61-D4C607B6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9950-7D0C-447D-80E5-EB22E18A7F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Mighty Fortress Is Our Go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omain Words: Martin Luther   Music: Martin Lu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mighty fortress is our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ulwark never fail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elper He amid the flo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ortal ills prevail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till our ancient Fo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th seek to work us wo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raft and pow'r are gre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rmed with cruel hat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earth is not his equ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we in our own strength conf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triving would be los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re not the right Man on our s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an of God's own choos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st ask who that may b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Jesus it is H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Sabbaoth His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age to age the sa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must win the batt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ough this world with devils fill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threaten to undo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not fear for God hath will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truth to triumph through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ince of Darkness gr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tremble not for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age we can endu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lo his doom is su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little word shall fell 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Word above all earthly pow'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thanks to them abideth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irit and the gifts are o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Him who with us sideth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goods and kindred 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mortal life also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ody they may kill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truth abideth stil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gdom is foreve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31:17Z</dcterms:modified>
  <cp:revision>3</cp:revision>
  <dc:subject/>
  <dc:title>By Thy Mercy Words by James J. Cummins Music by Greg Thompson © 2004 Greg Thompson Music</dc:title>
</cp:coreProperties>
</file>