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3810-8CBC-4747-AAF6-828814F77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0ABB-444A-4402-A8C0-EB5024AC2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0439-0CAE-4E51-8A21-0A0C8EAEB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7D44-396C-45FD-8191-0B28D7D82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6D61-5BDC-479E-A287-DA68D6E2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3215-46CB-4733-9B39-90AC4DD3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7AB4-5E00-41D4-8626-66036F9E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DFAD-70C0-4666-A503-7BA3A0BD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78F0-1FE3-4D60-B249-477DD8D7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ED15-27C6-4B70-851D-7B73F8DA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AB0E-DD52-4DC9-9308-7C2565E3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8A17-5279-4E9D-BF2C-4F26721A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879E-F8BD-4E0C-AFB5-840C924FF6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mazing Grace</a:t>
            </a:r>
            <a:br>
              <a:rPr sz="40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ublic Domain Words:  John Newton and John Rees (v.5) Music: American Folk Tu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mazing grace! How sweet the soun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saved a wretch like m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once was lost, but now am found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s blind, but now I s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'Twas grace that taught my heart to fea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grace my fears relieved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precious did that grace appe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hour I first believ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ough many dangers, toils, and snar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have already come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'Tis grace that brought me safe thus fa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grace will lead me ho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hen this flesh and heart shall fail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mortal life shall ceas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hall possess, within the veil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life of joy and pea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we've been there ten thousand year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right shining as the su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've no less days to sing God's prais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n when we first begu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16:51:30Z</dcterms:modified>
  <cp:revision>14</cp:revision>
  <dc:subject/>
  <dc:title>By Thy Mercy Words by James J. Cummins Music by Greg Thompson © 2004 Greg Thompson Music</dc:title>
</cp:coreProperties>
</file>