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F51-8E20-4993-8A4C-FC812D17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531-C46E-4058-8148-3A8751CB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AA0-CC51-4669-8161-45605DF5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5AF-BFDB-4D92-8541-D3BDA956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A12-A0B8-4857-8478-420DC052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93F-1003-42C2-877F-A3FCC80B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D47A-5B7C-4066-A661-A598466C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97C-0183-4568-9125-7F135019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466-0B2D-4AC8-B0D2-ED2FE1FE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B05-7E99-47CD-A779-502A8771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7EF-542B-4D2E-A3D8-9C699D85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6A9-C0B6-41F1-9284-8EA9D6D0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ADB5-7E38-47F8-805B-0B8EADC35E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mazing Grace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Domain Words:  John Newton and John Rees (v.5) Music: American Folk Tu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grace! How sweet the sou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saved a wretch like 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once was lost, but now am foun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blind, but now I s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was grace that taught my heart to f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race my fears relieve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precious did that grace app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ur I first believ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many dangers, toils, and sna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already com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grace that brought me safe thus f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race will lead me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this flesh and heart shall fai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ortal life shall ceas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possess, within the veil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life of joy and pe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e've been there ten thousand yea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ght shining as the su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ve no less days to sing God's p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when we first begu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51:30Z</dcterms:modified>
  <cp:revision>14</cp:revision>
  <dc:subject/>
  <dc:title>By Thy Mercy Words by James J. Cummins Music by Greg Thompson © 2004 Greg Thompson Music</dc:title>
</cp:coreProperties>
</file>