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5E2-CAE8-4FFB-8E45-8C36C081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DDB-AFA1-4682-8A2B-BDB7E415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2FF-7F1A-41AE-B3C1-9A89213D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103-ED7F-4683-A093-051114AD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A69-1AEE-4DAE-923A-46F79A26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237-D622-4CAF-BFCC-96906F73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F21-9D5B-48A3-95C1-F3F3A6B3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54A-12C6-41C6-8F8A-1B8F419B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533-D10E-4BCE-9C0E-ED870A34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9F7-030E-4600-80F9-3C70379D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EE2-0E5F-423E-9D5C-4E35C42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E24-6066-44E9-916D-841F8A8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DD5F-8246-44E2-A274-6E881DFAF2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ways Thou Lovedst 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 Unknown Music: Darwin Jordan © 1984 Darwin Jordan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ought the Lord, and afterwa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e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oved my soul to seek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ing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was not I that f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avior tru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, I was found of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ind, I walk, I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h, the wh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love is but my answ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wert long beforeh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ways Thou loves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didst reach forth Thy h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ine enfol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alked and sank not 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orm vexed se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was not so much that I 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e took h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u, dear Lord, on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ind, I walk, I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h, the wh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love is but my answ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wert long beforeh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ways Thou loves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50:05Z</dcterms:modified>
  <cp:revision>13</cp:revision>
  <dc:subject/>
  <dc:title>By Thy Mercy Words by James J. Cummins Music by Greg Thompson © 2004 Greg Thompson Music</dc:title>
</cp:coreProperties>
</file>