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60F-34F4-49AA-98D3-9EBFB32D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29C-ECE5-420D-ADD6-DCA460B6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1E7-EBD6-4E07-885B-C6EB2C0C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B21-9D2A-418D-B220-86F15AFE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E74-9233-4AD6-8CD2-728193A2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123-FEC0-413D-9D6C-FD3B1416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201-31EA-4F0B-92DF-1A9BBED7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246-7134-4BA0-A2D2-1BA6050E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C76-2802-4334-9462-57C824D3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DF6-9C85-4C9D-B340-F0D9D2A6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ABB-92A6-4682-87E9-D7937F2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1ED-DA4D-4F96-8F77-C97893BB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AF5C-3363-4312-B3C5-B343613718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ways Thou Lovedst M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 Unknown Music: Darwin Jordan © 1984 Darwin Jordan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ought the Lord, and afterwa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e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oved my soul to seek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king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was not I that f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avior tru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, I was found of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ind, I walk, I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h, the wh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love is but my answ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wert long beforeh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ways Thou loves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didst reach forth Thy h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ine enfol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alked and sank not 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orm vexed se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was not so much that I 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e took h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ou, dear Lord, on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ind, I walk, I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h, the wh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love is but my answ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wert long beforeh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ways Thou loves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50:05Z</dcterms:modified>
  <cp:revision>13</cp:revision>
  <dc:subject/>
  <dc:title>By Thy Mercy Words by James J. Cummins Music by Greg Thompson © 2004 Greg Thompson Music</dc:title>
</cp:coreProperties>
</file>