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E0D-2D4A-4C70-B752-8FD5B66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E5E-7382-4BB0-A8E5-8DC80B1E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A7D-87B2-4543-9D99-A6851AB5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FD1-815B-4C13-A2A0-6DF4DAF1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F01-2D93-49A2-83D1-55743861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375-6747-475D-BEF0-15E37D5E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0AC-4719-463F-B8CD-B87C7F5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1BB-B737-4953-8983-7FC49C2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E6C-904F-4954-B73E-EC1F083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D86-7B43-48C1-81D2-DDA71BE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284-FFAB-4C5C-A433-E2F5CFA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27A-D50B-468A-A61F-0CAA951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520-F5A4-490A-A2ED-7C90202E8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That I Am I Owe to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Scottish Psalter Music: Ian Fitchuck © 2000 Ian Fitch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I am I owe to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sdom Lord has fashioned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my Maker thankful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ondrous works my soul am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e into being I was brou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eye did see and in Thy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all its perfect pl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ordered ere my days be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houghts O God how manif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ecious unto me than go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e on their infin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ing I am still with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icked Thou wilt surely s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me let sinners turn aw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peak against Thy Name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unt God's enemies as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O God my heart disc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me my inmost thoughts to lear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d me if in sin I st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oose the everlasting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8:58Z</dcterms:modified>
  <cp:revision>12</cp:revision>
  <dc:subject/>
  <dc:title>By Thy Mercy Words by James J. Cummins Music by Greg Thompson © 2004 Greg Thompson Music</dc:title>
</cp:coreProperties>
</file>