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9DFE-5B2D-4FE0-B7DE-917AEAD1D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7C14-2F60-45DE-85B5-D5CD60FD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E3A5-7BE9-45F1-ACEF-AF5437628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A32F-95D8-4EF3-A5F0-37F2ABB1E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3C3B-C51A-4BC8-A6D6-9F72F3FD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7754-4F4F-41CB-B5D2-611E4515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379A-3315-4EB8-B153-95F21885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F93A-C598-436A-B8B9-D4F149C3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9989-D346-45F2-AE87-937F76CE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3805-82E3-4AC4-A946-C7A891EA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9887-9A20-4374-A98A-1D0501D3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5156-0757-472A-A499-294ADBEF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3B69-A0C8-43B9-9B8D-A8C22E457F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ll That I Am I Owe to Thee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 Scottish Psalter Music: Ian Fitchuck © 2000 Ian Fitchu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at I am I owe to The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wisdom Lord has fashioned 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give my Maker thankful prai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se wondrous works my soul amaz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re into being I was brough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eye did see and in Thy thou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life in all its perfect pla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s ordered ere my days beg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thoughts O God how manifo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precious unto me than gol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muse on their infinit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waking I am still with Th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icked Thou wilt surely sl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me let sinners turn aw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speak against Thy Name div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count God's enemies as m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arch me O God my heart discer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y me my inmost thoughts to lear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ead me if in sin I str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choose the everlasting w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16:48:58Z</dcterms:modified>
  <cp:revision>12</cp:revision>
  <dc:subject/>
  <dc:title>By Thy Mercy Words by James J. Cummins Music by Greg Thompson © 2004 Greg Thompson Music</dc:title>
</cp:coreProperties>
</file>