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5F5B-10E4-4F07-88C3-6AD996B69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CF62-52E8-4A46-B7F6-6DB37107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DA99-B2DC-4430-85F3-7B2CCE6A9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5475-B1E6-49F4-8832-A0004B3B5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FEEA-3D48-4E53-B2A7-4B1D7A76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933B-9CE5-4B96-99AB-9E36BB38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44F4-1298-4F68-BC49-CBA9FC64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E80B-44E4-4E05-8811-B5BBB5A8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6C0D-F5D0-4B30-8E69-C6B7E00E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410F-FF91-4F04-B607-02B89015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9F73-DE77-4D41-B698-233212B7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A22B-5B3B-4E8F-B880-6CB12E91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D19F-7923-40F9-BF18-E3BA452EF1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l Must Be Well</a:t>
            </a:r>
            <a:br>
              <a:rPr sz="40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ds:  Mary Bowley-Peters alt. Matthew Smith  Music: Matthew Smith © 2007 Detuned Radio Music (ASCAP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the love of God our Savio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will be w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ee and changeless is His favo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is w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cious is the blood that healed 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rfect is the grace that sealed 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ong the hand stretched forth to shield 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must be w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we pass through tribulatio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will be w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s is such a full salvatio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is w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ppy still in God confi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uitful if in Christ abi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eadfast through the Spirit's gui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must be w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expect a bright tomorrow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will be w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ith can sing through days of sorrow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is w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our Father's love rely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every need supply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s in living or in dy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must be w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16:47:34Z</dcterms:modified>
  <cp:revision>11</cp:revision>
  <dc:subject/>
  <dc:title>By Thy Mercy Words by James J. Cummins Music by Greg Thompson © 2004 Greg Thompson Music</dc:title>
</cp:coreProperties>
</file>