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EEF-9FA1-489B-8E6F-B1C5E92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363-E190-40CB-9BD1-D1C807B4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F92-5FCE-40B2-9549-E9684CCA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C6B-F901-4AE2-8B4A-C4B5F761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9B9-4DE6-4CCB-A24C-12115CC3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61D-7721-4C18-B418-A5F866B3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24C-6813-4E99-A483-7E9BB450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2E3-4165-4EBC-85DC-933B8FD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D9D-0724-4459-8C8B-1AA2AC30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CE4-D2A3-40A6-8928-224D2699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CDA-56EB-4E3B-AC1A-ABB14838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A46-7DE0-4B9F-9884-496B7AF0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D1AB-9DB8-4D4A-841C-6E2203205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Must Be Well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 Mary Bowley-Peters alt. Matthew Smith  Music: Matthew Smith © 2007 Detuned Radio Music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the love of God our Savi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and changeless is His fav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cious is the blood that healed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ect is the grace that sealed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the hand stretched forth to shield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t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we pass through tribul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s is such a full salv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ppy still in God confi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uitful if in Christ abi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adfast through the Spirit's gui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t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expect a bright tomorrow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can sing through days of sorrow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our Father's love rel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every need suppl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 in living or in d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t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7:34Z</dcterms:modified>
  <cp:revision>11</cp:revision>
  <dc:subject/>
  <dc:title>By Thy Mercy Words by James J. Cummins Music by Greg Thompson © 2004 Greg Thompson Music</dc:title>
</cp:coreProperties>
</file>