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A50-DC31-4721-A2D3-3C270D05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569-B615-4117-A437-63F1566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DC9-0E78-469A-9760-0E8F7549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732-C941-41BF-82E6-999464AA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777-7DCD-4872-8923-5E13F5D3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45E-7E3B-4001-BC53-42D5DB12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747-CF4E-4301-B75B-7E91B39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E76-FCD8-470D-ACF4-F565D34C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378-DD79-40F9-BE2D-ECE7D254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082-E561-4F3C-A87C-BBBD73C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038-A5A3-4DA8-A950-4711968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83D-05A2-46CA-8891-7F4848D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1C9B-D1A9-46D9-A923-9D3B811F92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Hail the Power of Jesus’ Nam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 Words: Edward Perronet and John Rippon Music: Oliver Hol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ail the power of Jesus'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ngels prostrate fall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forth the royal diade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forth the royal diade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chosen seed of Israel's 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ransomed from the fal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Him Who saves you by His g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Him Who saves you by His g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kindred, every trib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is terrestrial ba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all majesty ascrib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all majesty ascrib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t with yonder sacred thr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t His feet may fa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join the everlasting so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join the everlasting s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5:56Z</dcterms:modified>
  <cp:revision>10</cp:revision>
  <dc:subject/>
  <dc:title>By Thy Mercy Words by James J. Cummins Music by Greg Thompson © 2004 Greg Thompson Music</dc:title>
</cp:coreProperties>
</file>