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3A8D-C5EE-49F2-A19D-904BB3198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FC04-A020-467E-9AED-AB7CE3FA7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6ED0-E597-4A9D-9287-64036A7AC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DD6E-726E-47EC-A518-77841A263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13C9-2C34-4600-8FD6-89A3ED7D7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4C3D-A000-41A1-B578-78DF2C224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F11E-ADB8-455C-A8CD-4F6D3A490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F53C-704A-4A77-9A5F-846B15796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5ACF-A609-4256-B23E-2BE952D7A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6972-AFE8-499F-8FA9-765E6171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0C1F-2C84-4A51-88DC-CB5B24B6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0D9F-3A33-427D-B834-34298A7A4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8FA13-CFD3-431F-9ED9-83CF39AD792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ll Hail the Power of Jesus’ Name</a:t>
            </a:r>
            <a:br>
              <a:rPr sz="40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ublic Domain Words: Edward Perronet and John Rippon Music: Oliver Hold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44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hail the power of Jesus' nam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angels prostrate fall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ring forth the royal diadem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crown Him Lord of all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ring forth the royal diadem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crown Him Lord of al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e chosen seed of Israel's rac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e ransomed from the fall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il Him Who saves you by His grac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crown Him Lord of all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il Him Who saves you by His grac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crown Him Lord of al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every kindred, every trib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 this terrestrial ball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Him all majesty ascrib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crown Him Lord of all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Him all majesty ascrib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crown Him Lord of al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that with yonder sacred throng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at His feet may fall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'll join the everlasting song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crown Him Lord of all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'll join the everlasting so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crown Him Lord of al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4T16:45:56Z</dcterms:modified>
  <cp:revision>10</cp:revision>
  <dc:subject/>
  <dc:title>By Thy Mercy Words by James J. Cummins Music by Greg Thompson © 2004 Greg Thompson Music</dc:title>
</cp:coreProperties>
</file>